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32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40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35.png" ContentType="image/png"/>
  <Override PartName="/ppt/media/image5.jpeg" ContentType="image/jpeg"/>
  <Override PartName="/ppt/media/image26.jpeg" ContentType="image/jpeg"/>
  <Override PartName="/ppt/media/image34.png" ContentType="image/png"/>
  <Override PartName="/ppt/media/image12.jpeg" ContentType="image/jpeg"/>
  <Override PartName="/ppt/media/image3.jpeg" ContentType="image/jpeg"/>
  <Override PartName="/ppt/media/image37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6.png" ContentType="image/png"/>
  <Override PartName="/ppt/media/image36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9144000" cy="6858000"/>
  <p:notesSz cx="6858000" cy="97377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E85B36-4D7F-41D2-A2DF-A7A7DC4C86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C408EC-0F83-45D1-9294-C9A0ADF883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AA8CD6-FE93-439E-A6BC-78E77D33B8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5CE746-9F7B-471F-A51F-A60C4B3A8DF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4D4151-0C60-4F08-8E32-B5636753F6D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A28A8B-5F26-4349-B21B-A380FB4F70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B0341D-CB88-42D0-9ABB-2E86FDA4C8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1CB39E-F540-4F26-8A6D-9582714155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7C0667-2A55-4543-AB92-04012021D9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DDC364-9121-42E8-B51B-3D447CE70F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264457-AE46-4DD7-903D-E4BE825DE7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0DA605-C9F8-4222-9F76-6009078306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E7EF9-9170-4F1A-8E9D-949285D9D4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1692360" cy="6858000"/>
          </a:xfrm>
          <a:prstGeom prst="rect">
            <a:avLst/>
          </a:prstGeom>
          <a:gradFill rotWithShape="0">
            <a:gsLst>
              <a:gs pos="0">
                <a:srgbClr val="a50021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692360" y="838080"/>
            <a:ext cx="7451640" cy="6019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61800" y="6340320"/>
            <a:ext cx="100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dddddd"/>
                </a:solidFill>
                <a:latin typeface="Arial"/>
              </a:rPr>
              <a:t>OPS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84240" y="-23760"/>
            <a:ext cx="2124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 Black"/>
              </a:rPr>
              <a:t>FEUERWEH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OSNABRU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047600" y="295200"/>
            <a:ext cx="249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00"/>
                </a:solidFill>
                <a:latin typeface="Arial"/>
              </a:rPr>
              <a:t>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1676520" y="0"/>
            <a:ext cx="7467480" cy="87012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5486400" y="0"/>
            <a:ext cx="365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00"/>
                </a:solidFill>
                <a:latin typeface="Arial"/>
              </a:rPr>
              <a:t>www.osnabruecker-praxisseminar.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hyperlink" Target="http://www.atemschutzunfaelle.de/" TargetMode="Externa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692360" y="0"/>
            <a:ext cx="745164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676520" y="260280"/>
            <a:ext cx="7467480" cy="582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000000"/>
                </a:solidFill>
                <a:latin typeface="Arial"/>
              </a:rPr>
              <a:t>OPS 200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workshop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Retten aus Höhen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Björn Lüssenheide, BF Osnabrü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Christian Reeker, BF Wupper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Tobias Burgard, FF Möglin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905120" y="1066680"/>
            <a:ext cx="6933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ttung Bewusstloser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..besser über Leitern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2480" y="2209680"/>
            <a:ext cx="739152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iante 1 – quer auf den Arm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öglich bei Kindern/Jugendlichen, beim OPS: 30 kg-Dumm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ände des Retters an den Sprossen sinnvo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iterspitze sollte bündig mit der Fensterbank sein, auf Sprossenüberstand verzich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ster Stand der Lei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cherung durch einen FA am Leiterfuß oder Leiterspit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öglichst viele Helfer zur Übergabe des Opfers einsetz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905120" y="1066680"/>
            <a:ext cx="7010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ttung Bewusstloser..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...besser über Leitern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362320" y="6232680"/>
            <a:ext cx="594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iante 2 – sitz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1905120" y="1523880"/>
            <a:ext cx="6914880" cy="4648320"/>
            <a:chOff x="1905120" y="1523880"/>
            <a:chExt cx="6914880" cy="4648320"/>
          </a:xfrm>
        </p:grpSpPr>
        <p:pic>
          <p:nvPicPr>
            <p:cNvPr id="92" name="" descr=""/>
            <p:cNvPicPr/>
            <p:nvPr/>
          </p:nvPicPr>
          <p:blipFill>
            <a:blip r:embed="rId1"/>
            <a:stretch/>
          </p:blipFill>
          <p:spPr>
            <a:xfrm>
              <a:off x="1905120" y="1523880"/>
              <a:ext cx="3484440" cy="464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" name="" descr=""/>
            <p:cNvPicPr/>
            <p:nvPr/>
          </p:nvPicPr>
          <p:blipFill>
            <a:blip r:embed="rId2"/>
            <a:stretch/>
          </p:blipFill>
          <p:spPr>
            <a:xfrm>
              <a:off x="5334120" y="1523880"/>
              <a:ext cx="3485880" cy="464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3124080" y="4800600"/>
              <a:ext cx="1219320" cy="121932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343400" y="5029200"/>
              <a:ext cx="21337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Arial"/>
                </a:rPr>
                <a:t>Füße werden recht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Arial"/>
                </a:rPr>
                <a:t>und links vom Hol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Arial"/>
                </a:rPr>
                <a:t>geführ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562720" y="2590920"/>
              <a:ext cx="1600200" cy="152388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553080" y="1676520"/>
              <a:ext cx="21337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Arial"/>
                </a:rPr>
                <a:t>Arme vom Retter untergreifen die Achseln des Opfer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477120" y="4800600"/>
              <a:ext cx="1218960" cy="121932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905120" y="1066680"/>
            <a:ext cx="7010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ttung Bewusstloser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..besser über Leitern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676520" y="1828800"/>
            <a:ext cx="761976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iante 2 – sitz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ch bei Erwachsenen möglich, beim OPS: 50 kg-Dumm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ände des Retters sollten an den Holmen geführt werden, Nachteil: Sperrbolzen und Kästen an der Steckleiter (Multifunktionsleitern und Schiebleitern sind zu bevorzug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sicht sollte zum Retter zei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ine müssen rechts und links von den Holmen geführt werd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iterspitze sollte bündig mit der Fensterbank sein, auf Sprossenüberstand verzich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ster Stand der Lei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cherung durch einen FA am Leiterfuß oder Leiterspit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öglichst viele Helfer zur Übergabe des Opfers einsetz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52480" y="914400"/>
            <a:ext cx="7010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bstrettungen von Atemschutzgeräteträg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0720" y="2209680"/>
            <a:ext cx="4496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uftn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rchzündu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824120" y="1066680"/>
            <a:ext cx="391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bstrettungen durch Sprünge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905120" y="2360520"/>
            <a:ext cx="5790960" cy="42674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5334120" y="2362320"/>
            <a:ext cx="3506760" cy="250344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1828800" y="152388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rlin: Trupp mit schweren Verbrennungen aus 17,1 m Höhe in SP16 (ein FA mit PA, ein FA ohne P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5410080" y="1752480"/>
            <a:ext cx="3581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Hängen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...um Zeit zur Vornahme von Leitern oder Sprungrettungs-geräten zu gewinn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057400" y="583560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ängen und fallen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zur Verringerung der Fallhö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905120" y="1066680"/>
            <a:ext cx="708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ternative Selbstrettungen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981080" y="1828800"/>
            <a:ext cx="3353040" cy="280656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5562720" y="3833640"/>
            <a:ext cx="3178080" cy="256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905120" y="1066680"/>
            <a:ext cx="708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ternative Selbstrettungen -&gt; HÄ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044800" y="1590840"/>
            <a:ext cx="671832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905120" y="1066680"/>
            <a:ext cx="708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ternative Selbstrettungen -&gt; HÄ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044800" y="1590840"/>
            <a:ext cx="671832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905120" y="1066680"/>
            <a:ext cx="7086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tl. Rettung von Kollegen über Leitern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..Anleiterbereitschaft möglichst an allen Sei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2438280" y="2000160"/>
            <a:ext cx="6039000" cy="45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2438280" y="2057400"/>
            <a:ext cx="6019920" cy="451656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1905120" y="1066680"/>
            <a:ext cx="7010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ttung von Kollegen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..Anleiterbereitschaft zahlt sich aus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438280" y="2000160"/>
            <a:ext cx="5867640" cy="44006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905120" y="1066680"/>
            <a:ext cx="7086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ttung gehfähiger Bewohner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..Sicherung durch Feuerwehrman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438280" y="2133720"/>
            <a:ext cx="5715000" cy="42876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1905120" y="1066680"/>
            <a:ext cx="7086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ttung von Kollegen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..Leiterkopf liegt an Fensterba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386080" y="1981080"/>
            <a:ext cx="6148440" cy="46134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905120" y="1066680"/>
            <a:ext cx="7010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ttung von Kollegen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..kopfüber (Enges Fenster! Keine Zeit!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438280" y="2000160"/>
            <a:ext cx="6026400" cy="452124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1905120" y="1066680"/>
            <a:ext cx="7086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ttung von Kollegen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..Retter unterstützt beim Überstie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514600" y="1981080"/>
            <a:ext cx="6019920" cy="45180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1905120" y="1066680"/>
            <a:ext cx="7010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ttung von Kollegen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..Retter unterstützt beim Überstie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1905120" y="1066680"/>
            <a:ext cx="7010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ttung von Kollegen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..Retter unterstützt beim Abstie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438280" y="1981080"/>
            <a:ext cx="5996160" cy="44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905120" y="1066680"/>
            <a:ext cx="701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ttung von Kollegen, Retter unterstützt beim Abstie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133720" y="1600200"/>
            <a:ext cx="6553080" cy="491508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4952880" y="3429000"/>
            <a:ext cx="1143000" cy="10666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200400" y="3121200"/>
            <a:ext cx="213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Schultern vom Opfer werden von den Armen des Retters gestütz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648320" y="4572000"/>
            <a:ext cx="1143000" cy="990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58000" y="1600200"/>
            <a:ext cx="1066680" cy="6858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724280" y="1676520"/>
            <a:ext cx="2133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Füße greifen in die Spross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638680" y="5334120"/>
            <a:ext cx="2133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Opfer hangelt sich an den Sprossen hera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2057400" y="1619280"/>
            <a:ext cx="6705720" cy="502920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1905120" y="1066680"/>
            <a:ext cx="701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opfüber-Selbstrettung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419720" y="4572000"/>
            <a:ext cx="914400" cy="8380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705720" y="1752480"/>
            <a:ext cx="914400" cy="8384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724280" y="1752480"/>
            <a:ext cx="2133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Füße greifen in die Spross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34120" y="5257800"/>
            <a:ext cx="2133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Opfer hangelt sich an den Sprossen hera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057400" y="1523880"/>
            <a:ext cx="6781680" cy="508644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1905120" y="1066680"/>
            <a:ext cx="701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opfüber-Selbstrettung -&gt; 180°-Dreh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419720" y="4038480"/>
            <a:ext cx="1752480" cy="13716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705720" y="1752480"/>
            <a:ext cx="914400" cy="8384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724280" y="1752480"/>
            <a:ext cx="2133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Füße greifen in die Spross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867280" y="5257800"/>
            <a:ext cx="2133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umgreif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981080" y="1523880"/>
            <a:ext cx="6858000" cy="51436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1905120" y="1066680"/>
            <a:ext cx="701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opfüber-Selbstrettung -&gt; 180°-Dreh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038480" y="4191120"/>
            <a:ext cx="1828800" cy="17524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419720" y="1828800"/>
            <a:ext cx="2133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Beine zur Seite schwing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943600" y="5181480"/>
            <a:ext cx="2133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Hände fixier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505320" y="2590920"/>
            <a:ext cx="838080" cy="1600200"/>
          </a:xfrm>
          <a:custGeom>
            <a:avLst/>
            <a:gdLst>
              <a:gd name="textAreaLeft" fmla="*/ 112320 w 838080"/>
              <a:gd name="textAreaRight" fmla="*/ 725760 w 838080"/>
              <a:gd name="textAreaTop" fmla="*/ 295920 h 1600200"/>
              <a:gd name="textAreaBottom" fmla="*/ 1016280 h 1600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994" stAng="-5400000" swAng="-5400000"/>
                <a:lnTo>
                  <a:pt x="0" y="9723"/>
                </a:lnTo>
                <a:arcTo wR="21600" hR="7994" stAng="10800000" swAng="-3406968"/>
                <a:lnTo>
                  <a:pt x="16513" y="21375"/>
                </a:lnTo>
                <a:lnTo>
                  <a:pt x="21600" y="16852"/>
                </a:lnTo>
                <a:lnTo>
                  <a:pt x="16513" y="11878"/>
                </a:lnTo>
                <a:lnTo>
                  <a:pt x="16513" y="15762"/>
                </a:lnTo>
                <a:arcTo wR="21600" hR="7994" stAng="7393032" swAng="3268641"/>
                <a:lnTo>
                  <a:pt x="127" y="8858"/>
                </a:lnTo>
                <a:arcTo wR="21600" hR="7994" stAng="-10661673" swAng="5261673"/>
                <a:close/>
              </a:path>
              <a:path fill="darkenLess" w="21600" h="21600">
                <a:moveTo>
                  <a:pt x="21600" y="0"/>
                </a:moveTo>
                <a:arcTo wR="21600" hR="7994" stAng="-5400000" swAng="-5400000"/>
                <a:lnTo>
                  <a:pt x="0" y="7994"/>
                </a:lnTo>
                <a:arcTo wR="21600" hR="7994" stAng="10800000" swAng="-138327"/>
                <a:lnTo>
                  <a:pt x="127" y="8858"/>
                </a:lnTo>
                <a:arcTo wR="21600" hR="7994" stAng="-10661673" swAng="5261673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2057400" y="1542960"/>
            <a:ext cx="6705720" cy="502920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1905120" y="1066680"/>
            <a:ext cx="701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opfüber-Selbstrettung -&gt; 180°-Dreh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114800" y="2666880"/>
            <a:ext cx="2133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umschwing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352680" y="2438280"/>
            <a:ext cx="838440" cy="1600200"/>
          </a:xfrm>
          <a:custGeom>
            <a:avLst/>
            <a:gdLst>
              <a:gd name="textAreaLeft" fmla="*/ 112320 w 838440"/>
              <a:gd name="textAreaRight" fmla="*/ 726120 w 838440"/>
              <a:gd name="textAreaTop" fmla="*/ 295920 h 1600200"/>
              <a:gd name="textAreaBottom" fmla="*/ 1016280 h 1600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994" stAng="-5400000" swAng="-5400000"/>
                <a:lnTo>
                  <a:pt x="0" y="9723"/>
                </a:lnTo>
                <a:arcTo wR="21600" hR="7994" stAng="10800000" swAng="-3406968"/>
                <a:lnTo>
                  <a:pt x="16513" y="21375"/>
                </a:lnTo>
                <a:lnTo>
                  <a:pt x="21600" y="16852"/>
                </a:lnTo>
                <a:lnTo>
                  <a:pt x="16513" y="11878"/>
                </a:lnTo>
                <a:lnTo>
                  <a:pt x="16513" y="15762"/>
                </a:lnTo>
                <a:arcTo wR="21600" hR="7994" stAng="7393032" swAng="3268641"/>
                <a:lnTo>
                  <a:pt x="127" y="8858"/>
                </a:lnTo>
                <a:arcTo wR="21600" hR="7994" stAng="-10661673" swAng="5261673"/>
                <a:close/>
              </a:path>
              <a:path fill="darkenLess" w="21600" h="21600">
                <a:moveTo>
                  <a:pt x="21600" y="0"/>
                </a:moveTo>
                <a:arcTo wR="21600" hR="7994" stAng="-5400000" swAng="-5400000"/>
                <a:lnTo>
                  <a:pt x="0" y="7994"/>
                </a:lnTo>
                <a:arcTo wR="21600" hR="7994" stAng="10800000" swAng="-138327"/>
                <a:lnTo>
                  <a:pt x="127" y="8858"/>
                </a:lnTo>
                <a:arcTo wR="21600" hR="7994" stAng="-10661673" swAng="5261673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057400" y="1752480"/>
            <a:ext cx="3200400" cy="48006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5638680" y="1752480"/>
            <a:ext cx="3200400" cy="48006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752480" y="990720"/>
            <a:ext cx="7239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ttung gehfähiger Bewohner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..Sicherung durch Feuerwehrman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1981080" y="1523880"/>
            <a:ext cx="6858000" cy="514368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1905120" y="1066680"/>
            <a:ext cx="701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opfüber-Selbstrettung -&gt; 180°-Dreh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358128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umgreif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057400" y="5867280"/>
            <a:ext cx="2133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Beine nachführ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733920" y="4648320"/>
            <a:ext cx="1600200" cy="16002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410080" y="3200400"/>
            <a:ext cx="1828800" cy="17524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1981080" y="1504800"/>
            <a:ext cx="6858000" cy="514368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1905120" y="1066680"/>
            <a:ext cx="701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opfüber-Selbstrettung -&gt; 180°-Dreh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553080" y="3657600"/>
            <a:ext cx="21337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Grundposition: normaler Abstieg möglich bzw. Unterstützung von Kollegen bei der Selbstrett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1905120" y="1066680"/>
            <a:ext cx="7010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ttung von Kollegen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..kopfü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889280" y="2193840"/>
            <a:ext cx="702612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e kopfüber-Methode sollte sicherlich nicht die 1. Wahl im Falle einer Selbstrettung darstellen, ist jedoch eine Möglichkeit. Insbesondere bei der Selbstrettung durch enge Fenster, eine echte Alternati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acht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stellwinkel so flach wie mögli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ch Möglichkeit kein Sprossenüberst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lls möglich sollte das Atemschutzgerät abgelegt wer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n Kollege sollte unterstütz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ining erforderli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3733920" y="2133720"/>
            <a:ext cx="5181480" cy="414324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1981080" y="2590920"/>
            <a:ext cx="2535480" cy="316836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905120" y="1066680"/>
            <a:ext cx="7010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ttung von Kollegen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..über parallele Leiter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3048120" y="1752480"/>
            <a:ext cx="4487760" cy="480060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2133720" y="1143000"/>
            <a:ext cx="626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wDV 10: Drei Sprossen Überstand – Praxisgerech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905120" y="1066680"/>
            <a:ext cx="7086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nstige Rettungsgerä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rungpolster SP 16, wird mit zwei FA in Stellung gebrac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1981080" y="1981080"/>
            <a:ext cx="6858000" cy="4572000"/>
            <a:chOff x="1981080" y="1981080"/>
            <a:chExt cx="6858000" cy="4572000"/>
          </a:xfrm>
        </p:grpSpPr>
        <p:pic>
          <p:nvPicPr>
            <p:cNvPr id="178" name="" descr=""/>
            <p:cNvPicPr/>
            <p:nvPr/>
          </p:nvPicPr>
          <p:blipFill>
            <a:blip r:embed="rId1"/>
            <a:stretch/>
          </p:blipFill>
          <p:spPr>
            <a:xfrm>
              <a:off x="1981080" y="1981080"/>
              <a:ext cx="6858000" cy="457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"/>
            <p:cNvSpPr/>
            <p:nvPr/>
          </p:nvSpPr>
          <p:spPr>
            <a:xfrm>
              <a:off x="5943600" y="2819520"/>
              <a:ext cx="990720" cy="3808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010280" y="3200400"/>
              <a:ext cx="990720" cy="3808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7924680" y="3048120"/>
              <a:ext cx="838440" cy="228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200400" y="3200400"/>
              <a:ext cx="762120" cy="228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1905120" y="1066680"/>
            <a:ext cx="7086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nstige Rettungsgerä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rungpolster SP 16, wird mit zwei FA in Stellung gebrac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2082960" y="2019240"/>
            <a:ext cx="6603840" cy="4533840"/>
            <a:chOff x="2082960" y="2019240"/>
            <a:chExt cx="6603840" cy="4533840"/>
          </a:xfrm>
        </p:grpSpPr>
        <p:pic>
          <p:nvPicPr>
            <p:cNvPr id="185" name="" descr=""/>
            <p:cNvPicPr/>
            <p:nvPr/>
          </p:nvPicPr>
          <p:blipFill>
            <a:blip r:embed="rId1"/>
            <a:stretch/>
          </p:blipFill>
          <p:spPr>
            <a:xfrm>
              <a:off x="2082960" y="2019240"/>
              <a:ext cx="3022560" cy="453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5479920" y="2590920"/>
              <a:ext cx="32068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prung ein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brennenden Dummy (OPS 2004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564000" y="3500280"/>
              <a:ext cx="649080" cy="57636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4211640" y="3213000"/>
              <a:ext cx="1224000" cy="4320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2438280" y="1981080"/>
            <a:ext cx="5943600" cy="445788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1905120" y="1066680"/>
            <a:ext cx="7086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nstige Rettungsgerä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ttung über Drehleiterkor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1797120" y="982800"/>
            <a:ext cx="72388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nstige Rettungsgerä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ttung über den gewohnten Weg mit Fluchthaube – meist die beste Alternative! Sofern eine Evakuierung wirklich nötig ist?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2340000" y="2205000"/>
            <a:ext cx="6108840" cy="425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1828800" y="1066680"/>
            <a:ext cx="7315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nstige Rettungsgerä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ttung eines Patienten mit Hilfsmitteln: z. B. Schleifkorbtrage oder Spineboard. In der Regel die schonendste Methode für verletzte Opf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2590920" y="2419200"/>
            <a:ext cx="5410080" cy="40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905120" y="1066680"/>
            <a:ext cx="7010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ttung gehfähiger Bewohner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..Sicherung mit Leine. Sinnvoll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944720" y="2057400"/>
            <a:ext cx="6970680" cy="46432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2744280" y="2209680"/>
            <a:ext cx="141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Festpunk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897280" y="5486400"/>
            <a:ext cx="400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Leine hängt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ei Absturz schwere Verletzunge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886200" y="2743200"/>
            <a:ext cx="53352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4876920" y="4419720"/>
            <a:ext cx="22860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52120" y="914400"/>
            <a:ext cx="52578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ellenverzeichn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752120" y="1523880"/>
            <a:ext cx="7239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Osnabrücker Praxisseminare von 2003 bis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iami Dade Fire Rescue, U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ire Dept. Baltimore, U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ire Dept. Indianapolis, U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erliner Feuerwehr,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euerwehr Osnabrück,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atemschutzunfaelle.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ilder, OPS 2005: Tobias Burg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905120" y="1066680"/>
            <a:ext cx="7238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ttung Bewusstloser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..mit Leine gefährlich und nicht patientengerecht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911760" y="2057400"/>
            <a:ext cx="294624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905120" y="1066680"/>
            <a:ext cx="7086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ttung Bewusstloser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..wenn mit Leine, dann als Rettungsschlinge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14800" y="1981080"/>
            <a:ext cx="56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Schlaufenlänge abmessen (Fuß bis Schul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090560" y="2057400"/>
            <a:ext cx="194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nebel/Karabi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752480" y="2362320"/>
            <a:ext cx="518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Schlaufen bilden, mit Fuß fixier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756440" y="2743200"/>
            <a:ext cx="337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3. Einfacher Knoten in 1/3 hö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624080" y="5486400"/>
            <a:ext cx="148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inenbeut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756800" y="3124080"/>
            <a:ext cx="319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 Schlinge am Opfer anle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758240" y="3505320"/>
            <a:ext cx="460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 Über HMS-Sicherung vorsichtig ablass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477120" y="4267080"/>
            <a:ext cx="19047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327000" y="2604960"/>
            <a:ext cx="101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hul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573600" y="5043600"/>
            <a:ext cx="58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6400800" y="2666880"/>
            <a:ext cx="99072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6629040" y="5334120"/>
            <a:ext cx="11430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402960" y="3962520"/>
            <a:ext cx="9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no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7315200" y="2590920"/>
            <a:ext cx="76320" cy="2743200"/>
          </a:xfrm>
          <a:custGeom>
            <a:avLst/>
            <a:gdLst/>
            <a:ahLst/>
            <a:rect l="l" t="t" r="r" b="b"/>
            <a:pathLst>
              <a:path w="48" h="1680">
                <a:moveTo>
                  <a:pt x="48" y="0"/>
                </a:moveTo>
                <a:cubicBezTo>
                  <a:pt x="28" y="700"/>
                  <a:pt x="8" y="1400"/>
                  <a:pt x="0" y="1680"/>
                </a:cubicBezTo>
              </a:path>
            </a:pathLst>
          </a:custGeom>
          <a:solidFill>
            <a:srgbClr val="000000"/>
          </a:solidFill>
          <a:ln w="50760">
            <a:solidFill>
              <a:srgbClr val="000000"/>
            </a:solidFill>
            <a:round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91520" y="2502000"/>
            <a:ext cx="1143000" cy="2908080"/>
          </a:xfrm>
          <a:custGeom>
            <a:avLst/>
            <a:gdLst/>
            <a:ahLst/>
            <a:rect l="l" t="t" r="r" b="b"/>
            <a:pathLst>
              <a:path w="720" h="1832">
                <a:moveTo>
                  <a:pt x="0" y="1784"/>
                </a:moveTo>
                <a:cubicBezTo>
                  <a:pt x="60" y="944"/>
                  <a:pt x="120" y="104"/>
                  <a:pt x="144" y="104"/>
                </a:cubicBezTo>
                <a:cubicBezTo>
                  <a:pt x="168" y="104"/>
                  <a:pt x="120" y="1792"/>
                  <a:pt x="144" y="1784"/>
                </a:cubicBezTo>
                <a:cubicBezTo>
                  <a:pt x="168" y="1776"/>
                  <a:pt x="264" y="112"/>
                  <a:pt x="288" y="56"/>
                </a:cubicBezTo>
                <a:cubicBezTo>
                  <a:pt x="312" y="0"/>
                  <a:pt x="216" y="1152"/>
                  <a:pt x="288" y="1448"/>
                </a:cubicBezTo>
                <a:cubicBezTo>
                  <a:pt x="360" y="1744"/>
                  <a:pt x="540" y="1788"/>
                  <a:pt x="720" y="1832"/>
                </a:cubicBezTo>
              </a:path>
            </a:pathLst>
          </a:custGeom>
          <a:noFill/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5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500"/>
                            </p:stCondLst>
                            <p:childTnLst>
                              <p:par>
                                <p:cTn id="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3000"/>
                            </p:stCondLst>
                            <p:childTnLst>
                              <p:par>
                                <p:cTn id="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350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000"/>
                            </p:stCondLst>
                            <p:childTnLst>
                              <p:par>
                                <p:cTn id="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1905120" y="1066680"/>
            <a:ext cx="7086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ttung Bewusstloser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..wenn mit Leine, dann als Rettungsschlinge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905120" y="3048120"/>
            <a:ext cx="4724280" cy="35431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5791320" y="1981080"/>
            <a:ext cx="3085920" cy="41148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1905120" y="1981080"/>
            <a:ext cx="373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ch die Rettung mit Atemschutzgerät ist möglich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905120" y="1066680"/>
            <a:ext cx="708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e sichere ich den Bewusstlosen in der Schling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362320" y="6095880"/>
            <a:ext cx="6172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MS (Halbmastwurfsicheru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m Karabiner oder Halligan-T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1752480" y="1676520"/>
            <a:ext cx="731520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905120" y="1066680"/>
            <a:ext cx="6933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ttung Bewusstloser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..besser über Leitern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666880" y="6248520"/>
            <a:ext cx="55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iante 1 – quer auf den Arm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666880" y="1962000"/>
            <a:ext cx="5562720" cy="41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0T19:34:25Z</dcterms:created>
  <dc:creator>Björn Lüssenheide</dc:creator>
  <dc:description/>
  <dc:language>en-US</dc:language>
  <cp:lastModifiedBy>Horn</cp:lastModifiedBy>
  <dcterms:modified xsi:type="dcterms:W3CDTF">2005-10-05T13:47:22Z</dcterms:modified>
  <cp:revision>70</cp:revision>
  <dc:subject>OPS 2005 - workshop Nr. 3</dc:subject>
  <dc:title>Retten aus Höhe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624669978</vt:r8>
  </property>
  <property fmtid="{D5CDD505-2E9C-101B-9397-08002B2CF9AE}" pid="3" name="_AuthorEmail">
    <vt:lpwstr>I.Horn@eckelmann.de</vt:lpwstr>
  </property>
  <property fmtid="{D5CDD505-2E9C-101B-9397-08002B2CF9AE}" pid="4" name="_AuthorEmailDisplayName">
    <vt:lpwstr>Horn, Ingo</vt:lpwstr>
  </property>
  <property fmtid="{D5CDD505-2E9C-101B-9397-08002B2CF9AE}" pid="5" name="_EmailSubject">
    <vt:lpwstr>Retten aus Höhen</vt:lpwstr>
  </property>
</Properties>
</file>