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4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372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äsentation des Atemschutzbereich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880" y="2286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r Feuerwehr der Gemei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..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4191120"/>
            <a:ext cx="6400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Durch Leiter Atemschutz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Verfasser: Klaus Peter Reidt (für www.atemschutzunfaelle.d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tand: Oktober 2002</a:t>
            </a: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66"/>
                </a:solidFill>
                <a:latin typeface="Arial"/>
              </a:rPr>
              <a:t>Aufgabe des Leiter Atemschutz</a:t>
            </a:r>
            <a:endParaRPr b="0" lang="en-US" sz="3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ratung des Leiter FW f.d. Bereich Atemschut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Überwachung und Durchführung des Atemschutzes einschließlich Weiterbild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Überwachung und Einhaltung der gesetzlichen Überprüfungster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Überwachen der Lagerung, Verwaltung von Gerä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ühren der Personalkarte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ldung festgestellter Mängel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Aus-, Weiterbildung, Gerä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 den Unternehmer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Berichtspflich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illegung und Aussonderung nicht einsatzfähiger Gerät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BGR 19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Anmerkung: einige Punkte werden bei fehlen eines AT-Gerätewartes in kl. Gemeinden durch den Ltr. Atemschutz vorgenomme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Klaus Peter Reidt (für www.atemschutzunfaelle.d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tand: Oktober 2002</a:t>
            </a:r>
          </a:p>
        </p:txBody>
      </p:sp>
    </p:spTree>
  </p:cSld>
  <p:transition spd="med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676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§ 3 Aufgaben der Gemeinde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1) Die Gemeinden haben zur Erfüllung ihrer Aufgaben im Brandschutz und in der Allgemeinen Hilfe 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darfs- und Entwicklungsplanu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u erarbeiten, fortzuschreiben u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an orienti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ine den örtlichen Erfordernissen entsprechend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stungsfähige Feuerweh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fzustellen, diese mit d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wendigen baulichen Anlag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d Einrichtung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wie technischer Ausrüstung auszustatten und zu unterhalten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Klaus Peter Reidt (für www.atemschutzunfaelle.d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tand: Oktober 2002</a:t>
            </a: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12372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fgabe der Gemeinde</a:t>
            </a:r>
            <a:br>
              <a:rPr sz="44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Auszug § 3 HBKG)</a:t>
            </a:r>
            <a:endParaRPr b="0" lang="en-US" sz="1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für die Ausbildung und Fortbildung der Feuerwehrangehörigen zu sorgen (Freistellung etc.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larmpläne und Einsatzpläne für den Brandschutz und die Allgemeine Hilfe aufzustellen, fortzuschreiben und, soweit dies erforderlich ist, untereinander abzustimmen,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Die Gemeindefeuerwehr ist so aufzustellen, dass sie in der Regel zu jeder Zeit und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jedem Or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hres Zuständigkeitsbereichs innerhalb von zehn Minuten nach der Alarmierung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ksame Hilf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inleiten kann.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oran orientiert sich die leistungsfähige Feuerwehr 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920" y="22096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uerwehrorganisationsverordnung 10/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§ 1 - Grundsatzregel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(1) Organisation, Stärke und Ausrüstung der öffentlichen Feuerwehren richten sich nach dem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Bedarf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, der durch einen Bedarfs- und Entwicklungsplan ( § 3 Abs.1 Nr.1 HBKG) ermittelt wird. Hierbei werden sowohl allgemeine Gefahren als auch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besondere im Gemeindegebiet vorhandene Gefahrenbereic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erfasst. Die Mindestanforderungen für den Grundbrandschutz sind in Anlage festgeleg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Verfasser: Klaus Peter Reidt (für www.atemschutzunfaelle.d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tand: Oktober 2002</a:t>
            </a: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66"/>
                </a:solidFill>
                <a:latin typeface="Arial"/>
              </a:rPr>
              <a:t>Welche Gefährdungspotentiale liegen innerhalb der Gemeinde vor ?</a:t>
            </a:r>
            <a:endParaRPr b="0" lang="en-US" sz="3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Bundesautobahn </a:t>
            </a:r>
            <a:r>
              <a:rPr b="0" lang="de-DE" sz="2500" spc="-1" strike="noStrike">
                <a:solidFill>
                  <a:srgbClr val="ffffff"/>
                </a:solidFill>
                <a:latin typeface="Times New Roman"/>
              </a:rPr>
              <a:t>(Gefahrgut, brennende Fahrzeuge),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Bundesstraße, Eisenbahntrasse (I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Altenheime, Schulen, Kindergärten, Wohnhäu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Hotels und Jugendhaus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(Dachgeschos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Landwirtschaftliche Höfe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(Organ. Peroxid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Klaus Peter Reidt (für www.atemschutzunfaelle.d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tand: Oktober 2002</a:t>
            </a: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efährdungspotential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B und B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74800" y="2863800"/>
          <a:ext cx="739116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2863800"/>
                    <a:ext cx="739116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858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Keine Einsatzbereitschaft = keine wirksame (schnelle) Hilf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= potentielle Gefährdung der Bevölkerung durch Schadensausbreit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Klaus Peter Reidt (für www.atemschutzunfaelle.de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tand: Oktober 2002</a:t>
            </a: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Gefährdungspotential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Altenheim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Altenheim......im Stadt-,Ortsteil .......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??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imbewohn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 Dav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bettläger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1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bräuchte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Hilf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bei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Geh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Altenheim......im Stadt-,Ortsteil .......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??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Heimbewohn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 dav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2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ic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gehfäh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und weite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37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 die au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Hilf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bei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Ge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angewiesen sin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Altenheim......im Stadt-,Ortsteil .......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??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Heimbewohn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Heimbewohne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bettläger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und weite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2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auf d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Rollstuhl angewies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weite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3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welche au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Hilf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bei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e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angewiesen si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Klaus Peter Reidt (für www.atemschutzunfaelle.d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tand: Oktober 2002</a:t>
            </a: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temschutzunfäl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Bei Hinzuziehung von Berichten über Atemschutzunfälle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(www.Atemschutzunfaelle.de)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folgendes Fazi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Atemschutzgeräteträger und FK derzeit größtenteils nicht in der Lag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Gefahren an der Einsatzstelle konkret zu erkennen, (Erkundung, Beurteilung d. Lag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folgerichtig zu handeln (Entschluss) 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sich selbst und Bürger zu schütz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Klaus Peter Reidt (für www.atemschutzunfaelle.d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tand: Oktober 2002</a:t>
            </a: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rzeitiges Fazi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insatzbereitschaft im Atemschutz nur bedingt vorhan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zahl der Atemschutzgeräteträger nicht ausreich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uerwehreinsatzpläne feh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inhaltung der gesetzlichen Prüffristen und Bereitstellung der Kosten im Haushaltplan bislang unzureich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gerung der Atemschutzgeräte entspricht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ich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n einschlägigen Vorschriften der BGR 190 und FWDV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rzeit fehlende Atemschutzgerätewa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Klaus Peter Reidt (für www.atemschutzunfaelle.d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tand: Oktober 2002</a:t>
            </a: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66"/>
                </a:solidFill>
                <a:latin typeface="Arial"/>
              </a:rPr>
              <a:t>Maßnahmen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tivationssteigerung zur Ableistung des Atemschutzgeräteträgerlehrg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Überarbeitung der Alarm- und Einsatzpläne hinsichtlich tatsächlicher Verhältni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stärkte, intensive Weiterbildung im Atemschutz der Führungskräfte und Mannschaft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Beginn seit Herbst 2001 mit Teilerfolge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fstellung einer technischen Einsatzleitung gem. HB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fstellung eines Atemschutzzuges (Altenhei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arbeitung von Feuerweh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insat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änen von besonderen Gefährdungspotentialen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Projektgruppe durch Wehrführerausschuss gegründet,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itung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Ltr. Atemschutz,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itglieder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: Zug- und Gruppenführ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nsivierung von Maßnahmen des vorbeugenden Brandschutz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Klaus Peter Reidt (für www.atemschutzunfaelle.d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tand: Oktober 2002</a:t>
            </a: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merkung zur Präs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hebt keinen Anspruch auf Vollständigk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l dazu beitragen, dass Feuerwehrangehörige unverletzt aus dem Einsatz kom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itte und Sachwerte durch falsche Handlungen von Feuerwehrangehörigen oder durch Organisationsmangel nicht weiter beeinträchtigt werden (Regres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ent nicht dazu bisheriges Handeln, Denken oder Unterlassen in Misskredit zu bri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l in einfach und verständlicher Form auf Risiken, Chancen und Möglichkeiten aber auch auf di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twendigke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on Maßnahmen hinwei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6172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Klaus Peter Reidt (für www.atemschutzunfaelle.d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tand: Oktober 2002</a:t>
            </a: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66"/>
                </a:solidFill>
                <a:latin typeface="Arial"/>
              </a:rPr>
              <a:t>Weitere Maßnahmen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Konsequente Einhaltung der gesetzlichen Prüffristen und Bereitstellung der Kosten im Haushaltpl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Bauliche Maßnahmen zur Erlangung einer vorschriftsmäßigen Lagerung der Gerä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Durchführung von halbjährlichen und jährlichen Prüfungen </a:t>
            </a:r>
            <a:r>
              <a:rPr b="1" lang="de-DE" sz="2200" spc="-1" strike="noStrike">
                <a:solidFill>
                  <a:srgbClr val="ffffff"/>
                </a:solidFill>
                <a:latin typeface="Times New Roman"/>
              </a:rPr>
              <a:t>vor Ort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 wirtschaftlicher 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Anschaffung eines Prüfkoffers (€ 2300,00); erspart Fahrt- und Lohnkost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Verlängerte Austauschintervalle, dadurch Kostenersparnis in Höhe von jährlich € 1500 bei Preßluftatmern un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Times New Roman"/>
              </a:rPr>
              <a:t>weitere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 Einsparung bei Routineuntersuchungen und nach Übung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Herstellung der sofortigen Einsatzbereitschaf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Amortisierung innerhalb von 1/12 Jahr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Klaus Peter Reidt (für www.atemschutzunfaelle.d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tand: Oktober 2002</a:t>
            </a: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440" y="1066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Organisationsverschulde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können bei Führungskräften an folgenden Sachverhalten festgemacht werden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Verfasser: Klaus Peter Reidt (für www.atemschutzunfaelle.de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tand: Oktober 2002</a:t>
            </a: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Organisationsverschulden</a:t>
            </a:r>
            <a:br>
              <a:rPr sz="2400"/>
            </a:br>
            <a:br>
              <a:rPr sz="2400"/>
            </a:br>
            <a:r>
              <a:rPr b="0" lang="en-US" sz="2600" spc="-1" strike="noStrike">
                <a:solidFill>
                  <a:srgbClr val="ffcc66"/>
                </a:solidFill>
                <a:latin typeface="Arial"/>
                <a:ea typeface="Times New Roman"/>
              </a:rPr>
              <a:t>Mängel in der Aufbau- und Ablauforganisation führen zur Schädigung</a:t>
            </a:r>
            <a:br>
              <a:rPr sz="2600"/>
            </a:b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der Mitarbeiter und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Dritter und/oder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der Umwel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s können Schadensersatzansprüche gegenüber den Führungskräften (Gemeindevorstand, BGM. Leiter der Feuerwehr, Leiter Atemschutz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geltend gemacht werd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Verfasser: Klaus Peter Reidt (für www.atemschutzunfaelle.d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tand: Oktober 2002</a:t>
            </a: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Es können drei Arten von schuldhaften Verhalten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unterschieden werden und ggf.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Schadensersatzansprüche nach sich ziehen: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Wenn ein Unternehmen Verantwortu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n ungeeignete Mitarbeiter delegi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Wenn Betriebsanweisungen fehlen o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ückenhaft sind und nicht beachtet wer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Wenn gar nicht o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ereinfacht kontrolliert wi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BGB z.B.§§ 823,831 Abs. 1 Satz 2 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§ 130 Ow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Klaus Peter Reidt (für www.atemschutzunfaelle.d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tand: Oktober 2002</a:t>
            </a: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37124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Organisationsverschulden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Selektionsverschulden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Anweisungsverschulden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Überwachungsverschulden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§ 130 OwiG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unterstreicht die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-verantwortung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r Unternehmensleitung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Klaus Peter Reidt (für www.atemschutzunfaelle.d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tand: Oktober 2002</a:t>
            </a: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  <a:ea typeface="Times New Roman"/>
              </a:rPr>
              <a:t>Regeln zur Umsetzung der Organisationsverantwortung</a:t>
            </a:r>
            <a:br>
              <a:rPr sz="2100"/>
            </a:br>
            <a:endParaRPr b="0" lang="en-US" sz="21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51920" y="144756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de-DE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Ermitteln und Beachtung der relevanten feuerwehrspezifischen Rechtsvorschrift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de-DE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Bewusstmachen der allgemeinen, generell geltenden rechtlichen Anforderungen, insbesondere des Haftungs- und Strafrechts  </a:t>
            </a:r>
            <a:r>
              <a:rPr b="0" lang="de-DE" sz="1500" spc="-1" strike="noStrike">
                <a:solidFill>
                  <a:srgbClr val="ffffff"/>
                </a:solidFill>
                <a:latin typeface="Verdana"/>
                <a:ea typeface="Times New Roman"/>
              </a:rPr>
              <a:t>(ggf. Durchgriffshaftung an Magistrat/ Vorstand, § 823 BBG, Amtshaftung etc.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de-DE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Betriebs- und produktbezogene Analyse </a:t>
            </a:r>
            <a:r>
              <a:rPr b="0" lang="de-DE" sz="1500" spc="-1" strike="noStrike">
                <a:solidFill>
                  <a:srgbClr val="ffffff"/>
                </a:solidFill>
                <a:latin typeface="Verdana"/>
                <a:ea typeface="Times New Roman"/>
              </a:rPr>
              <a:t>(Mannschaft/ Gerät)</a:t>
            </a:r>
            <a:r>
              <a:rPr b="0" lang="de-DE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der einschlägigen Organisationsanforderung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de-DE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Feststellung des Ist-Zustands der Betriebsorganis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de-DE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Bewerten des Ist-Zustands anhand des Anforderungsspektru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de-DE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Vollständiges Umsetzen der konkreten, </a:t>
            </a:r>
            <a:r>
              <a:rPr b="1" lang="de-DE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zwingend vorgeschriebenen</a:t>
            </a:r>
            <a:r>
              <a:rPr b="0" lang="de-DE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Vorgab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de-DE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Interpretation der unbestimmten Anforderungen gemessen am »Möglichen und Zumutbaren« (= Bewertungsmaßstab der Verschuldenshaftung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Verfasser: Klaus Peter Reidt (für www.atemschutzunfaelle.d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tand: Oktober 2002</a:t>
            </a: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nternehmenspflichte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28600" y="12189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ie sorgfältige Erfassung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alle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Unternehmenspflicht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(Vorschriften der Berufsgenossenschaft, Hersteller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Feuerwehrdienstvorschriften, EN- (DIN) Norme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ine lückenlose und in sich widerspruchsfreie Aufgabenverteilung, so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ass es weder zu Zuständigkeitslücken noch zu blockierenden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Kompetenzüberschneidungen kommen kan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ie Delegation der wahrzunehmenden Aufgaben an sorgfältig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ausgewählte Mitarbei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ine regelmäßige Kontrolle der jeweils nachgeordneten Hierarchieebe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ereitstellung der notwendigen Haushaltmittel zu Erfüllung der Aufgab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Verfasser: Klaus Peter Reidt (für www.atemschutzunfaelle.d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tand: Oktober 2002</a:t>
            </a: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as umfasst der Atemschutzbereich 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nscha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rä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s- und Fortbild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Times New Roman"/>
              </a:rPr>
              <a:t>Atemschutzgeräteträg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Times New Roman"/>
              </a:rPr>
              <a:t>Preßluftatmer, Flaschen, Masken, Filt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Times New Roman"/>
              </a:rPr>
              <a:t>Geräteträgerlehrga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Times New Roman"/>
              </a:rPr>
              <a:t>Gerätewartelehrega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Times New Roman"/>
              </a:rPr>
              <a:t>Standortausbildung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(Anpassung &amp; Weiterbildung an örtliche Verhältniss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6172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Klaus Peter Reidt (für www.atemschutzunfaelle.de)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tand: Oktober 2002</a:t>
            </a: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nnschaft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rzeit ?? einsatzbereite Geräteträg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olvierung des Geräteträgerlehrga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Ärztliche Untersuchung G 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ährlicher Streckendurchga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insatzüb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ilnahme an Weiterbildung zur Erhaltung Einsatzbereitscha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hlt eine Voraussetzung = Keine Tauglichke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ine Tauglichkeit = Gefährdung der Einsatzbereitscha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Klaus Peter Reidt (für www.atemschutzunfaelle.d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tand: Oktober 2002</a:t>
            </a: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erä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Atemschutzgerä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avon ? wegen eingestellter Ersatzteillieferung nicht einsatzfähig. Weitere ? Geräte, welche ab 2007 aus vorgenanntem Grund  nicht einsatzfähig sind (PA 80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euanschaffung, ansonsten Einsatzbereitschaft nicht gewährleiste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Klaus Peter Reidt (für www.atemschutzunfaelle.d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tand: Oktober 2002</a:t>
            </a: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sken &amp; Flasche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erzeit ca. 60 Mask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lle Masken sind entsprechend der Herstellerauflagen mit neu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Sprechmembranen u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usatemventilen etc. zu verseh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rzeit ?? Flasc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von ?? Flaschen TÜV fäll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zgl. Erneuerung Lackierung (Neue No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zgl. Erneuerung Flaschenventil (Sicherheitsvorschrif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sten ca. 140 € a F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Klaus Peter Reidt (für www.atemschutzunfaelle.de)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tand: Oktober 2002</a:t>
            </a: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us- und Weiterbild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t Bestandteil der Einsatzbereitscha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t notwendig als Selbstschutz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were Unfälle im Atemschutz durch mangelhafte Aus- und Weiterbildung (BF Köln, FF Soden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besondere für Führungskräfte (Schadensminimieru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rzeitige Einschätzu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insatzbereitschaft nur bedingt vorhan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Klaus Peter Reidt (für www.atemschutzunfaelle.d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tand: Oktober 2002</a:t>
            </a: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temschutzgeräteträg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rt:            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     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temschutz nicht gewährleist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rt:           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rt :      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rt :         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(3)    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temschutz nicht gewährleist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rt:        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       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temschutz nicht gewährleist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rt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rt:            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rt     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2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temschutz nicht gewährleist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(Detaillierte Bewertung der Einsatzbereitschaft nach Eingang der Einsatzbereitschaftsanalys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Klaus Peter Reidt (für www.atemschutzunfaelle.d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tand: Oktober 2002</a:t>
            </a: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372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 ist verantwortlich 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920" y="2413080"/>
          <a:ext cx="8589960" cy="23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13080"/>
                    <a:ext cx="8589960" cy="23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2:29:08Z</dcterms:created>
  <dc:creator>NN</dc:creator>
  <dc:description/>
  <dc:language>en-US</dc:language>
  <cp:lastModifiedBy>Björn Lüssenheide</cp:lastModifiedBy>
  <dcterms:modified xsi:type="dcterms:W3CDTF">2002-10-28T22:06:08Z</dcterms:modified>
  <cp:revision>38</cp:revision>
  <dc:subject/>
  <dc:title>Präsentation des Atemschutzbereiches</dc:title>
</cp:coreProperties>
</file>