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2188-6D10-4E8A-90D8-BBC88E9F14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Überhose, Überjacke, Feuerschutzhaube, DIN-Helm mit Helmtuc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Chemikalienschutzanz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rennungsverletzungen auf dem Rücken eines Feuerwehrmannes nach einem Stichflammenkontakt. Der Feuerwehrmann trug eine „Standardschutzkleidung“ aus Schurwolle. Die Tragplatte des Atemschutzgerätes verhinderte eine stärkere Verbrennung des Rückenbere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weis: Der Sonnenstich ist nur zum Vergleich mitaufgeführt. Im Bezug auf Schutzkleidung sind nur Hitzeerschöpfung und Hitzschlag interess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spiele für kollabierte F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ch Überkleidung, CSA, KSA, Hitzeschutzkleidung... (i. d. R. Anwendungsfeh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spiele für Ruhezonen bei größeren 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tungsdienst, SEG-Betreuung, Aufenthaltsräume in Einsatzortnähe, Schnelleinsatzzelt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ahlreiche Dienstunfälle können Sie unter www.atemschutzunfaelle.de einse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Durch Verbrennungen verletzter Nacken und Hinterkopfbereich eines Feuerwehrmannes nach Stichflammenkontakt. Ein Flammenunterschlag war möglich, nachdem das Leder weggeschrumpft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Innenansicht diverser auf einer instrumentierten Versuchsgruppe beflammten Feuerwehrhelme. Das dargestellte Verletzungsbild konnte in der Stichflammensimulation nachvollzogen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s Bild: Unterarm und Hand eines verletzten Feuerwehrmannes nach einer Stichflammenex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htes Bild: Schrumpf eines bisher bei den Feuerwehren in Gebrauch befindlichen Lederhandschuhes (nass) nach einer Beflammung auf dem Thermo-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urden die Hände eines Feuerwehrmannes nach Stichflammenkontakt aus den Schutzhandschuhen aus Leder befre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BC7-1FFB-41D0-B3F9-8B5DAA2F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7A4-9E47-4675-9F99-9DE443E4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100-9DE6-41E2-AD81-16E7813F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D61-0CE4-4870-90D1-1BA9AC9C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D1C-722F-4A6C-B560-F2DD3C8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13D-A710-4B5B-A5A9-199B4FED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8E4-DD23-4A82-8642-3765C3E2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772-A47D-40ED-AA38-E38E3C3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C1A-78BF-4EA2-A97E-F0E00799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560-CC4D-4C47-BEBF-D3D443B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4EA-4682-4C7F-87C4-5F2B781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83A-71C9-4887-B9E9-8E13F8A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3E95-6953-4BAC-BE49-B8F7F57A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hyperlink" Target="http://www.atemschutzunfaelle.de/" TargetMode="External"/><Relationship Id="rId3" Type="http://schemas.openxmlformats.org/officeDocument/2006/relationships/hyperlink" Target="http://www.atemschutzunfaelle.de/" TargetMode="External"/><Relationship Id="rId4" Type="http://schemas.openxmlformats.org/officeDocument/2006/relationships/hyperlink" Target="http://www.atemschutzunfaelle.de/" TargetMode="External"/><Relationship Id="rId5" Type="http://schemas.openxmlformats.org/officeDocument/2006/relationships/hyperlink" Target="http://www.rettungsschule.de/" TargetMode="External"/><Relationship Id="rId6" Type="http://schemas.openxmlformats.org/officeDocument/2006/relationships/hyperlink" Target="http://www.feuerwehr-achmer.de.vu/" TargetMode="External"/><Relationship Id="rId7" Type="http://schemas.openxmlformats.org/officeDocument/2006/relationships/hyperlink" Target="http://www.feuerwehr-achmer.de.vu/" TargetMode="External"/><Relationship Id="rId8" Type="http://schemas.openxmlformats.org/officeDocument/2006/relationships/hyperlink" Target="http://www.hf-sicherheitskleidung.de/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emschutzunfaelle.de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fahren durch Schutzkleidung..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arco%20unter%20csa" descr=""/>
          <p:cNvPicPr/>
          <p:nvPr/>
        </p:nvPicPr>
        <p:blipFill>
          <a:blip r:embed="rId1"/>
          <a:stretch/>
        </p:blipFill>
        <p:spPr>
          <a:xfrm>
            <a:off x="5410080" y="2265480"/>
            <a:ext cx="2195640" cy="360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11840" y="15541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klei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5160" y="15541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sakl5" descr=""/>
          <p:cNvPicPr/>
          <p:nvPr/>
        </p:nvPicPr>
        <p:blipFill>
          <a:blip r:embed="rId2"/>
          <a:stretch/>
        </p:blipFill>
        <p:spPr>
          <a:xfrm>
            <a:off x="1295280" y="2266920"/>
            <a:ext cx="269244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877-965D-409E-9919-E9361681AD3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erbrennungen am Rücke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14300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Überkleidung hätte den FA geschütz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verbrannter%20Rücken" descr=""/>
          <p:cNvPicPr/>
          <p:nvPr/>
        </p:nvPicPr>
        <p:blipFill>
          <a:blip r:embed="rId1"/>
          <a:stretch/>
        </p:blipFill>
        <p:spPr>
          <a:xfrm>
            <a:off x="1044720" y="990720"/>
            <a:ext cx="3425760" cy="5138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50532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Überkleidung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Überhose + Überjac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(m. Innenfutt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4D8-F601-4E62-97D7-BFACDB9572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llenangab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emschutzunfälle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temschutzunfaelle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Leistungsgrenzen des Menschen beim Tragen von Atemschutz und Schutzanzug; Aus dem Institut für Physiologie der Freien Universität Berlin, von K. Kirsch udn C. Vogt-Kirsch unter der techn. Mitarbeit von H.-J. Wicke; ASP 8/85, Seiten 173-1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mke, Jürgen. Universelle Feuerschutzkleidung für die öffentlichen Feuerwehren. Hintergründe, Entwicklungen, Leistungsmerkmale im Überblick, BRANDSchutz/Deutsche Feuerwehr-Zeitung 2/1998, Seiten 133 bis 15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K LV Niedersachsen, Rettungsschule Goslar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rettungsschule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uerwehr Bramsche-Achmer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feuerwehr-achmer.de.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v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F Sicherheitskleidung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www.hf-sicherheitskleidung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ergleichende Bewertung des Trageverhaltens von Feuerwehr-Einsatzjacken (Phase II). M. Hocke (Institut für Angewandte Ergonomie), S. Schopper-Jochum (SU Gesundheitsschutz und Arbeitsmedizin des Werkes Hoechst der HOECHST AG) und W. Schubert (Werkfeuerwehr des Werkes Hoechst der HOECHST AG). Originalia, Arbeitsmed.Sozialmed.Umweltmed. 32/8 (1997), Seiten 314-32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F28-E5B6-42E8-944B-0398170788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en Dank für Ihre Aufmerksamkei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327672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für weitere Informationen besuchen Sie bitt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atemschutzunfaelle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 Kritik würde ich mich sehr freu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0BC-EDA6-4349-8B25-C199F90B06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66680" y="2230560"/>
          <a:ext cx="7162920" cy="33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30560"/>
                    <a:ext cx="7162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lgemeine Hitzeschäd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 Erkennen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B3F-7F19-448F-BF06-6F89F2640B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gemeine Hitzeschäd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Vorbeugung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eräteträger müssen körperlich fit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System Mensch-Atemschutzgerät-Schutzanzug stellt im Idealfall eine Einheit dar, an die u. U. höchste Anforderungen gestellt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rakt. Ausbildung muss härter sein als der spätere Einsatzdie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 die Belastungen des Feuerwehrangehörigen möglichst gering zu halten sollte man die Ausrüstung überdenk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osite- statt Stahlfla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ndschlinge statt Sicherheitsg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-Lampen etc. statt Handscheinwer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6E7-2165-4FF0-B0E4-1436FA4772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zeerschöpfung bzw. Hitzeschl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Maßnahmen/Vorbeugung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örperliche Tätigkeit rechtzeitig herabse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tzeitig die Trupps austausch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örper abkü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kleidung (Panikreißverschl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lüssigkeit aufne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felschorle... auf Fw-Fahrzeugen mit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D in Bereitstel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hezonen bei Großschadens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6D2-F826-477B-8E60-656996421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95320" y="8380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ikreißverschluss moderner Überjac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ßverschluss einfach nach oben zi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wendung nach „heißen“ Innenangriffen (Überhitzung des FA vermei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icht bei der PA- und Helmabnahme (heiße Metallte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anikreißverschluß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26844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42F-BD22-4026-AA39-3E40232B04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 wichtig eine moderne Brandschutzkleidung ist zeigen die nachfolgenden Bilder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6C9-9075-42D8-927E-D0E29D231E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brennungen im Nacken und am Hinterkopf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opfverletzung%20-%20Helme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36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105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Feuerschutzhaube und Helmtuch hätten einen wirksamen Schutz geb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870-A418-46F6-B2FF-3108058D72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brennungen an Hand/Arm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952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ein Wunder das noch nicht mehr passiert ist. Bekommen wir eigentlich jeden Unfall m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ederhandschuhe" descr=""/>
          <p:cNvPicPr/>
          <p:nvPr/>
        </p:nvPicPr>
        <p:blipFill>
          <a:blip r:embed="rId1"/>
          <a:stretch/>
        </p:blipFill>
        <p:spPr>
          <a:xfrm>
            <a:off x="1592280" y="1054080"/>
            <a:ext cx="579924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260-92D0-4E9E-B004-A5036C46D3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brennungen der Hand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2419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vernünftige Handschuhe hätten geschütz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erbrannte%20Hand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3240" cy="32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453-78C4-4E66-BBEF-37FEF5AF2C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ärz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8:22:12Z</dcterms:created>
  <dc:creator>Björn Lüssenheide</dc:creator>
  <dc:description/>
  <dc:language>en-US</dc:language>
  <cp:lastModifiedBy>Björn Lüssenheide</cp:lastModifiedBy>
  <dcterms:modified xsi:type="dcterms:W3CDTF">2002-04-30T10:16:27Z</dcterms:modified>
  <cp:revision>125</cp:revision>
  <dc:subject/>
  <dc:title>Gefahren durch PSA</dc:title>
</cp:coreProperties>
</file>