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12D-1FCA-4B12-84EA-9386BC4F79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Überhose, Überjacke, Feuerschutzhaube, DIN-Helm mit Helmtuc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Chemikalienschutzanz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rennungsverletzungen auf dem Rücken eines Feuerwehrmannes nach einem Stichflammenkontakt. Der Feuerwehrmann trug eine „Standardschutzkleidung“ aus Schurwolle. Die Tragplatte des Atemschutzgerätes verhinderte eine stärkere Verbrennung des Rückenbere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weis: Der Sonnenstich ist nur zum Vergleich mitaufgeführt. Im Bezug auf Schutzkleidung sind nur Hitzeerschöpfung und Hitzschlag interes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spiele für kollabierte F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ch Überkleidung, CSA, KSA, Hitzeschutzkleidung... (i. d. R. Anwendungsfeh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spiele für Ruhezonen bei größeren 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tungsdienst, SEG-Betreuung, Aufenthaltsräume in Einsatzortnähe, Schnelleinsatzzel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ahlreiche Dienstunfälle können Sie unter www.atemschutzunfaelle.de einse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Durch Verbrennungen verletzter Nacken und Hinterkopfbereich eines Feuerwehrmannes nach Stichflammenkontakt. Ein Flammenunterschlag war möglich, nachdem das Leder weggeschrumpft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Innenansicht diverser auf einer instrumentierten Versuchsgruppe beflammten Feuerwehrhelme. Das dargestellte Verletzungsbild konnte in der Stichflammensimulation nachvollzogen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Unterarm und Hand eines verletzten Feuerwehrmannes nach einer Stichflammenex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Schrumpf eines bisher bei den Feuerwehren in Gebrauch befindlichen Lederhandschuhes (nass) nach einer Beflammung auf dem Thermo-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urden die Hände eines Feuerwehrmannes nach Stichflammenkontakt aus den Schutzhandschuhen aus Leder befre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039-7400-45CE-907C-07DF2F34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6DA-505D-48B6-9752-0AA25B65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780-AD26-46CE-B256-C5644D08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497-A40D-4555-AFC9-828BE475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63B-2FA6-47F2-92BB-0C3D46A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56B-8477-438E-A69D-F774788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4CD-0EB1-4652-B82B-F0D8046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83A-84D4-4543-893A-3BDB65F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8F7-A263-4E48-8C4C-8BE2F2C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9A-C789-4D5B-802F-4B8A91FC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C1E-A86D-4F7B-AE1D-FDB8DBC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B1C-B4D6-410A-885A-204ADFE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CF9-93F6-4E28-BD4E-44B6910D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hyperlink" Target="http://www.atemschutzunfaelle.de/" TargetMode="External"/><Relationship Id="rId3" Type="http://schemas.openxmlformats.org/officeDocument/2006/relationships/hyperlink" Target="http://www.atemschutzunfaelle.de/" TargetMode="External"/><Relationship Id="rId4" Type="http://schemas.openxmlformats.org/officeDocument/2006/relationships/hyperlink" Target="http://www.atemschutzunfaelle.de/" TargetMode="External"/><Relationship Id="rId5" Type="http://schemas.openxmlformats.org/officeDocument/2006/relationships/hyperlink" Target="http://www.rettungsschule.de/" TargetMode="External"/><Relationship Id="rId6" Type="http://schemas.openxmlformats.org/officeDocument/2006/relationships/hyperlink" Target="http://www.feuerwehr-achmer.de.vu/" TargetMode="External"/><Relationship Id="rId7" Type="http://schemas.openxmlformats.org/officeDocument/2006/relationships/hyperlink" Target="http://www.feuerwehr-achmer.de.vu/" TargetMode="External"/><Relationship Id="rId8" Type="http://schemas.openxmlformats.org/officeDocument/2006/relationships/hyperlink" Target="http://www.hf-sicherheitskleidung.de/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fahren durch Schutzkleidung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arco%20unter%20csa" descr=""/>
          <p:cNvPicPr/>
          <p:nvPr/>
        </p:nvPicPr>
        <p:blipFill>
          <a:blip r:embed="rId1"/>
          <a:stretch/>
        </p:blipFill>
        <p:spPr>
          <a:xfrm>
            <a:off x="5410080" y="2265480"/>
            <a:ext cx="2195640" cy="360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11840" y="15541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klei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5160" y="15541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sakl5" descr=""/>
          <p:cNvPicPr/>
          <p:nvPr/>
        </p:nvPicPr>
        <p:blipFill>
          <a:blip r:embed="rId2"/>
          <a:stretch/>
        </p:blipFill>
        <p:spPr>
          <a:xfrm>
            <a:off x="1295280" y="2266920"/>
            <a:ext cx="269244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EEC-7ECA-4506-840F-5B9CA950D62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erbrennungen am Rücke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14300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Überkleidung hätte den FA geschütz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verbrannter%20Rücken" descr=""/>
          <p:cNvPicPr/>
          <p:nvPr/>
        </p:nvPicPr>
        <p:blipFill>
          <a:blip r:embed="rId1"/>
          <a:stretch/>
        </p:blipFill>
        <p:spPr>
          <a:xfrm>
            <a:off x="1044720" y="990720"/>
            <a:ext cx="3425760" cy="5138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50532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Überkleidung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Überhose + Überjac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(m. Innenfutt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C2D-B2EF-48D9-A692-1F02B35FB5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llenangab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emschutzunfälle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temschutzunfaelle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Leistungsgrenzen des Menschen beim Tragen von Atemschutz und Schutzanzug; Aus dem Institut für Physiologie der Freien Universität Berlin, von K. Kirsch udn C. Vogt-Kirsch unter der techn. Mitarbeit von H.-J. Wicke; ASP 8/85, Seiten 173-1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mke, Jürgen. Universelle Feuerschutzkleidung für die öffentlichen Feuerwehren. Hintergründe, Entwicklungen, Leistungsmerkmale im Überblick, BRANDSchutz/Deutsche Feuerwehr-Zeitung 2/1998, Seiten 133 bis 15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K LV Niedersachsen, Rettungsschule Goslar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rettungsschule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uerwehr Bramsche-Achmer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feuerwehr-achmer.de.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v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F Sicherheitskleidung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www.hf-sicherheitskleidung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ergleichende Bewertung des Trageverhaltens von Feuerwehr-Einsatzjacken (Phase II). M. Hocke (Institut für Angewandte Ergonomie), S. Schopper-Jochum (SU Gesundheitsschutz und Arbeitsmedizin des Werkes Hoechst der HOECHST AG) und W. Schubert (Werkfeuerwehr des Werkes Hoechst der HOECHST AG). Originalia, Arbeitsmed.Sozialmed.Umweltmed. 32/8 (1997), Seiten 314-32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F3C-D52B-4490-A8BE-6065CE20DF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en Dank für Ihre Aufmerksamkei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32767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für weitere Informationen besuchen Sie bitt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temschutzunfaelle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 Kritik würde ich mich sehr freu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B7A-59D6-4351-B1C7-D32FE0C892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66680" y="2230560"/>
          <a:ext cx="7162920" cy="33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30560"/>
                    <a:ext cx="7162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lgemeine Hitzeschäd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 Erkennen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EEB-5E8C-4DF7-AFB9-1C2940BB7D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gemeine Hitzeschäd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Vorbeugung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räteträger müssen körperlich fit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System Mensch-Atemschutzgerät-Schutzanzug stellt im Idealfall eine Einheit dar, an die u. U. höchste Anforderungen gestell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rakt. Ausbildung muss härter sein als der spätere Einsatzdie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die Belastungen des Feuerwehrangehörigen möglichst gering zu halten sollte man die Ausrüstung überden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osite- statt Stahlfla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ndschlinge statt Sicherheitsg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-Lampen etc. statt Handscheinwer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FC3-B0FC-402F-A0A1-1D941B64E6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zeerschöpfung bzw. Hitzeschl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Maßnahmen/Vorbeugung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örperliche Tätigkeit rechtzeitig herabse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tzeitig die Trupps austausch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örper abkü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kleidung (Panikreißverschl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lüssigkeit aufne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felschorle... auf Fw-Fahrzeugen mit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D in Bereit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hezonen bei Großschadens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634-F4EA-4900-AE8D-DB12D2CA0E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95320" y="8380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ikreißverschluss moderner Überja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ßverschluss einfach nach oben zi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wendung nach „heißen“ Innenangriffen (Überhitzung des FA vermei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icht bei der PA- und Helmabnahme (heiße Metallte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anikreißverschluß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26844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D5B-506F-497E-ABE8-EDD4DC2FD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 wichtig eine moderne Brandschutzkleidung ist zeigen die nachfolgenden Bilder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AC6-B892-4A7F-8BE4-89E6455222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brennungen im Nacken und am Hinterkopf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opfverletzung%20-%20Helme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36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105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Feuerschutzhaube und Helmtuch hätten einen wirksamen Schutz geb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095-EAB4-4BE0-BC3D-8A4E195C88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brennungen an Hand/Arm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952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ein Wunder das noch nicht mehr passiert ist. Bekommen wir eigentlich jeden Unfall m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ederhandschuhe" descr=""/>
          <p:cNvPicPr/>
          <p:nvPr/>
        </p:nvPicPr>
        <p:blipFill>
          <a:blip r:embed="rId1"/>
          <a:stretch/>
        </p:blipFill>
        <p:spPr>
          <a:xfrm>
            <a:off x="1592280" y="1054080"/>
            <a:ext cx="579924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58F-5C35-4567-B11E-DF4359F4B1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brennungen der Hand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2419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vernünftige Handschuhe hätten geschütz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erbrannte%20Hand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3240" cy="32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655-6557-4E8B-AA99-EE33039EE8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8:22:12Z</dcterms:created>
  <dc:creator>Björn Lüssenheide</dc:creator>
  <dc:description/>
  <dc:language>en-US</dc:language>
  <cp:lastModifiedBy>Björn Lüssenheide</cp:lastModifiedBy>
  <dcterms:modified xsi:type="dcterms:W3CDTF">2002-04-30T10:16:27Z</dcterms:modified>
  <cp:revision>125</cp:revision>
  <dc:subject/>
  <dc:title>Gefahren durch PSA</dc:title>
</cp:coreProperties>
</file>