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604-17C6-439B-9790-21C7F732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DC1-0995-47A7-88E2-2C81750C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75B-260B-4FDF-8E17-8709BAE3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6445-E181-428B-A1C7-5F094D81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FC0-36A1-488E-94FA-D705A5F7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B81D-E5AF-4DB1-B2A6-BB5A073C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5678-F687-44A9-98B6-E75F9724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2DED-63F1-4736-BE96-5A5C15AF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F2D-0B8D-470B-8D96-F6F56D5E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B77-E9AE-47C3-995A-C4CF0AE0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D8BC-B0E3-4E50-BF8E-4BA43F82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38C5-1295-4414-AAFA-AAB92278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52B7-BC60-4C51-B135-C3BE53B51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arven.com/" TargetMode="External"/><Relationship Id="rId2" Type="http://schemas.openxmlformats.org/officeDocument/2006/relationships/hyperlink" Target="http://www.jarven.com/" TargetMode="External"/><Relationship Id="rId3" Type="http://schemas.openxmlformats.org/officeDocument/2006/relationships/hyperlink" Target="http://www.jarven.com/" TargetMode="External"/><Relationship Id="rId4" Type="http://schemas.openxmlformats.org/officeDocument/2006/relationships/hyperlink" Target="http://www.jarven.com/" TargetMode="External"/><Relationship Id="rId5" Type="http://schemas.openxmlformats.org/officeDocument/2006/relationships/hyperlink" Target="http://www.jarven.com/" TargetMode="External"/><Relationship Id="rId6" Type="http://schemas.openxmlformats.org/officeDocument/2006/relationships/hyperlink" Target="http://www.rescue-tec.de/" TargetMode="External"/><Relationship Id="rId7" Type="http://schemas.openxmlformats.org/officeDocument/2006/relationships/hyperlink" Target="http://www.rescue-tec.de/" TargetMode="External"/><Relationship Id="rId8" Type="http://schemas.openxmlformats.org/officeDocument/2006/relationships/hyperlink" Target="http://www.rescue-tec.de/" TargetMode="External"/><Relationship Id="rId9" Type="http://schemas.openxmlformats.org/officeDocument/2006/relationships/hyperlink" Target="http://www.rescue-tec.de/" TargetMode="External"/><Relationship Id="rId10" Type="http://schemas.openxmlformats.org/officeDocument/2006/relationships/hyperlink" Target="http://www.rescue-tec.de/" TargetMode="External"/><Relationship Id="rId11" Type="http://schemas.openxmlformats.org/officeDocument/2006/relationships/hyperlink" Target="http://www.rescue-tec.de/" TargetMode="External"/><Relationship Id="rId12" Type="http://schemas.openxmlformats.org/officeDocument/2006/relationships/hyperlink" Target="http://www.feuerwehr-achmer.de.vu/" TargetMode="External"/><Relationship Id="rId13" Type="http://schemas.openxmlformats.org/officeDocument/2006/relationships/hyperlink" Target="http://www.feuerwehr-achmer.de.vu/" TargetMode="External"/><Relationship Id="rId14" Type="http://schemas.openxmlformats.org/officeDocument/2006/relationships/hyperlink" Target="mailto:info@atemschutzunfaelle.de" TargetMode="External"/><Relationship Id="rId15" Type="http://schemas.openxmlformats.org/officeDocument/2006/relationships/hyperlink" Target="mailto:info@atemschutzunfaelle.de" TargetMode="External"/><Relationship Id="rId16" Type="http://schemas.openxmlformats.org/officeDocument/2006/relationships/hyperlink" Target="mailto:info@atemschutzunfaelle.de" TargetMode="External"/><Relationship Id="rId17" Type="http://schemas.openxmlformats.org/officeDocument/2006/relationships/hyperlink" Target="mailto:info@atemschutzunfaelle.de" TargetMode="External"/><Relationship Id="rId18" Type="http://schemas.openxmlformats.org/officeDocument/2006/relationships/hyperlink" Target="http://www.atemschutzunfaelle.de/" TargetMode="External"/><Relationship Id="rId19" Type="http://schemas.openxmlformats.org/officeDocument/2006/relationships/hyperlink" Target="http://www.atemschutzunfaelle.de/" TargetMode="External"/><Relationship Id="rId20" Type="http://schemas.openxmlformats.org/officeDocument/2006/relationships/hyperlink" Target="http://www.atemschutzunfaelle.de/" TargetMode="External"/><Relationship Id="rId21" Type="http://schemas.openxmlformats.org/officeDocument/2006/relationships/hyperlink" Target="http://www.atemschutzunfaelle.de/" TargetMode="External"/><Relationship Id="rId2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609480"/>
            <a:ext cx="7162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vakuierung, Rettung...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066320" y="3200400"/>
            <a:ext cx="723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dddddd"/>
                </a:solidFill>
                <a:latin typeface="Arial"/>
              </a:rPr>
              <a:t>Evakuierung ohne Hilfsmit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1911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dddddd"/>
                </a:solidFill>
                <a:latin typeface="Arial"/>
              </a:rPr>
              <a:t>Evakuierung mit Hilfsmit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1337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dddddd"/>
                </a:solidFill>
                <a:latin typeface="Arial"/>
              </a:rPr>
              <a:t>Vorstellung verschiedener Prakti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169B-E9FA-44C5-BB96-B3775867329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6840" y="266688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- Rettungsgriff (...aus der Hock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ddddd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Rückenschleiftrick                                               (...in liegender Po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286080"/>
            <a:ext cx="556272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- Wegschleifen mit zwei Pers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(...unter die Arme greif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609480"/>
            <a:ext cx="7162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vakuierung, Rettung...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238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dddddd"/>
                </a:solidFill>
                <a:latin typeface="Arial"/>
              </a:rPr>
              <a:t>Evakuierung ohne Hilfsmit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Rettungsgriff%20mit%20zwei%20FA" descr=""/>
          <p:cNvPicPr/>
          <p:nvPr/>
        </p:nvPicPr>
        <p:blipFill>
          <a:blip r:embed="rId1"/>
          <a:stretch/>
        </p:blipFill>
        <p:spPr>
          <a:xfrm>
            <a:off x="5410080" y="2496960"/>
            <a:ext cx="3238560" cy="35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1D86-EE8C-42ED-978C-80128A90589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238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dddddd"/>
                </a:solidFill>
                <a:latin typeface="Arial"/>
              </a:rPr>
              <a:t>Evakuierung mit Hilfsmit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7680" y="472428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- Bandschli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6960" y="2590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- Dreiecktuch als Trag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5520" y="5257800"/>
            <a:ext cx="50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- Rettungsmulde (vgl. Fw Dortm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4080" y="3124080"/>
            <a:ext cx="54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- Tragetuch (sog. Rettungs-/Bergetu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9120" y="3657600"/>
            <a:ext cx="78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- Matratze bzw. Järven-Evakuierungslaken (siehe Vid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4440" y="4191120"/>
            <a:ext cx="37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- Geräte der Höhenret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14400" y="609480"/>
            <a:ext cx="7162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vakuierung, Rettung...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2ED-D787-4278-BE74-09960DB5504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80880" y="609480"/>
            <a:ext cx="8277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vakuierung aus Krankenhäusern , Altenheimen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05520" y="5410080"/>
            <a:ext cx="33811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Lösung der Fa. Järven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2C8-B055-4253-AAAF-98352B16977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mul5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13236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mul6" descr=""/>
          <p:cNvPicPr/>
          <p:nvPr/>
        </p:nvPicPr>
        <p:blipFill>
          <a:blip r:embed="rId2"/>
          <a:stretch/>
        </p:blipFill>
        <p:spPr>
          <a:xfrm>
            <a:off x="7162920" y="3962520"/>
            <a:ext cx="1550880" cy="2158920"/>
          </a:xfrm>
          <a:prstGeom prst="rect">
            <a:avLst/>
          </a:prstGeom>
          <a:ln w="0">
            <a:noFill/>
          </a:ln>
        </p:spPr>
      </p:pic>
      <p:pic>
        <p:nvPicPr>
          <p:cNvPr id="64" name="mul2" descr=""/>
          <p:cNvPicPr/>
          <p:nvPr/>
        </p:nvPicPr>
        <p:blipFill>
          <a:blip r:embed="rId3"/>
          <a:stretch/>
        </p:blipFill>
        <p:spPr>
          <a:xfrm>
            <a:off x="3962520" y="3962520"/>
            <a:ext cx="2781360" cy="2158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914400" y="304920"/>
            <a:ext cx="716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ettungsmulde "Dortmund"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1066680"/>
            <a:ext cx="5105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- Verlastung auf dem LF-Dach (pro LZ eine Mulde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94320" y="3276720"/>
            <a:ext cx="54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- PA des zu rettenden Kameraden bleibt unversehr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61920" y="2514600"/>
            <a:ext cx="45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- Transport über Treppen, längere Strec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(schleifen)... mög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17524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- RT-Bereitstellung mit Reserve-PA, Lamp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Brechwerkzeug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2DBB-606B-4EE1-A9F3-961514E18BB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14400" y="304920"/>
            <a:ext cx="716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andschlinge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as3013c" descr=""/>
          <p:cNvPicPr/>
          <p:nvPr/>
        </p:nvPicPr>
        <p:blipFill>
          <a:blip r:embed="rId1"/>
          <a:stretch/>
        </p:blipFill>
        <p:spPr>
          <a:xfrm>
            <a:off x="990720" y="4952880"/>
            <a:ext cx="1803240" cy="111780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838080" y="1371600"/>
            <a:ext cx="5334120" cy="2816280"/>
            <a:chOff x="838080" y="1371600"/>
            <a:chExt cx="5334120" cy="2816280"/>
          </a:xfrm>
        </p:grpSpPr>
        <p:sp>
          <p:nvSpPr>
            <p:cNvPr id="73" name=""/>
            <p:cNvSpPr/>
            <p:nvPr/>
          </p:nvSpPr>
          <p:spPr>
            <a:xfrm>
              <a:off x="838080" y="137160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dddddd"/>
                  </a:solidFill>
                  <a:latin typeface="Arial"/>
                </a:rPr>
                <a:t>- Fortschleifen von verunfallten Person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as3013b" descr=""/>
            <p:cNvPicPr/>
            <p:nvPr/>
          </p:nvPicPr>
          <p:blipFill>
            <a:blip r:embed="rId2"/>
            <a:stretch/>
          </p:blipFill>
          <p:spPr>
            <a:xfrm>
              <a:off x="1828800" y="1905120"/>
              <a:ext cx="2895480" cy="228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6095880" y="1600200"/>
            <a:ext cx="2514600" cy="3657600"/>
            <a:chOff x="6095880" y="1600200"/>
            <a:chExt cx="2514600" cy="3657600"/>
          </a:xfrm>
        </p:grpSpPr>
        <p:pic>
          <p:nvPicPr>
            <p:cNvPr id="76" name="as3013a" descr=""/>
            <p:cNvPicPr/>
            <p:nvPr/>
          </p:nvPicPr>
          <p:blipFill>
            <a:blip r:embed="rId3"/>
            <a:stretch/>
          </p:blipFill>
          <p:spPr>
            <a:xfrm>
              <a:off x="6172200" y="2057400"/>
              <a:ext cx="23544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095880" y="160020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dddddd"/>
                  </a:solidFill>
                  <a:latin typeface="Arial"/>
                </a:rPr>
                <a:t>- Öffnung von Tü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888640" y="5715000"/>
            <a:ext cx="58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Arial"/>
              </a:rPr>
              <a:t>- Selbstrettung, als Alternative zum Sicherheitsgu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211-CBAA-4BF4-8EC8-6A47778A065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14400" y="609480"/>
            <a:ext cx="7162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Quellenverzeichnis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828800"/>
            <a:ext cx="7543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ddd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Fa. Järven Plast &amp; Smide AB </a:t>
            </a:r>
            <a:r>
              <a:rPr b="0" lang="de-DE" sz="1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jarven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.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. rescue-tec (Jörg Hergenhahn) </a:t>
            </a: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www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.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rescue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-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tec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F Bramsche-Achmer  </a:t>
            </a: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www.feuerwehr-achmer.de.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v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4876920"/>
            <a:ext cx="7924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Verfasser: </a:t>
            </a: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Björn Lüssenheide, 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info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@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atemschutzunfaelle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www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.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atemschutzunfaelle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E478-5084-4A65-9EFE-64686A520AF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14:04:59Z</dcterms:created>
  <dc:creator>Björn Lüssenheide</dc:creator>
  <dc:description/>
  <dc:language>en-US</dc:language>
  <cp:lastModifiedBy>Björn Lüssenheide</cp:lastModifiedBy>
  <dcterms:modified xsi:type="dcterms:W3CDTF">2002-03-07T15:02:37Z</dcterms:modified>
  <cp:revision>13</cp:revision>
  <dc:subject/>
  <dc:title>Kein Folientitel</dc:title>
</cp:coreProperties>
</file>