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BBB-5009-4CCD-B0A1-D47C0E98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235-36CC-488A-85D9-89DA84C3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CAE-8C07-4A7C-8811-0B43BC7F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BEE-D919-4139-A54F-73F5206D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F25-EE7C-40B3-B980-74BA2399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BED-0340-4DD8-B403-8D8D281C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51A-2E64-4859-BFB8-E42DF48D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386-A550-4AAB-B386-45F87E20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3F7-143C-4369-B8E9-807E1417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6CC-3D5E-4207-85B3-FC802A98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65B-C058-4F43-903A-754981C1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43F-3160-4F18-9D4B-1F20B350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A40CCF-A96F-4F08-A6DC-E22718763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5797440"/>
            <a:ext cx="9132840" cy="1049400"/>
            <a:chOff x="0" y="5797440"/>
            <a:chExt cx="9132840" cy="1049400"/>
          </a:xfrm>
        </p:grpSpPr>
        <p:sp>
          <p:nvSpPr>
            <p:cNvPr id="4" name=""/>
            <p:cNvSpPr/>
            <p:nvPr/>
          </p:nvSpPr>
          <p:spPr>
            <a:xfrm>
              <a:off x="0" y="5835600"/>
              <a:ext cx="9131400" cy="1009800"/>
            </a:xfrm>
            <a:prstGeom prst="rect">
              <a:avLst/>
            </a:prstGeom>
            <a:gradFill rotWithShape="0">
              <a:gsLst>
                <a:gs pos="0">
                  <a:srgbClr val="4a4b00"/>
                </a:gs>
                <a:gs pos="100000">
                  <a:srgbClr val="faf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0" y="5797440"/>
              <a:ext cx="9132840" cy="1049400"/>
              <a:chOff x="0" y="5797440"/>
              <a:chExt cx="9132840" cy="1049400"/>
            </a:xfrm>
          </p:grpSpPr>
          <p:sp>
            <p:nvSpPr>
              <p:cNvPr id="6" name=""/>
              <p:cNvSpPr/>
              <p:nvPr/>
            </p:nvSpPr>
            <p:spPr>
              <a:xfrm>
                <a:off x="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8580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39068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09556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0044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50532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9112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89600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619600" y="5797440"/>
                <a:ext cx="91620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343560" y="5797440"/>
                <a:ext cx="91620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08660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81056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59720" y="6064200"/>
                <a:ext cx="573120" cy="782640"/>
              </a:xfrm>
              <a:custGeom>
                <a:avLst/>
                <a:gdLst/>
                <a:ahLst/>
                <a:rect l="l" t="t" r="r" b="b"/>
                <a:pathLst>
                  <a:path w="361" h="493">
                    <a:moveTo>
                      <a:pt x="0" y="492"/>
                    </a:moveTo>
                    <a:lnTo>
                      <a:pt x="360" y="0"/>
                    </a:lnTo>
                    <a:lnTo>
                      <a:pt x="360" y="120"/>
                    </a:lnTo>
                    <a:lnTo>
                      <a:pt x="96" y="492"/>
                    </a:lnTo>
                    <a:lnTo>
                      <a:pt x="0" y="492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82800" y="6484680"/>
            <a:ext cx="3885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ndesfeuerwehrschule Baden-Württemberg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 Rounded MT Bold"/>
              </a:rPr>
              <a:t>Tödlicher Unfall "Köln"</a:t>
            </a:r>
            <a:br>
              <a:rPr sz="4400"/>
            </a:b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6.3.96 - Kierberger Straße 15</a:t>
            </a:r>
            <a:br>
              <a:rPr sz="2400"/>
            </a:br>
            <a:br>
              <a:rPr sz="2400"/>
            </a:br>
            <a:r>
              <a:rPr b="0" lang="de-DE" sz="4400" spc="-1" strike="noStrike">
                <a:solidFill>
                  <a:srgbClr val="ffffff"/>
                </a:solidFill>
                <a:latin typeface="Arial Rounded MT Bold"/>
              </a:rPr>
              <a:t>Konsequenzen 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Rounded MT Bold"/>
              </a:rPr>
              <a:t>für Ausbildung 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Rounded MT Bold"/>
              </a:rPr>
              <a:t>und Einsat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zusammengestellt von 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Landesfeuerwehrschule Baden-Württem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Vornahme</a:t>
            </a:r>
            <a:r>
              <a:rPr b="1" lang="en-US" sz="4400" spc="-1" strike="noStrike">
                <a:solidFill>
                  <a:srgbClr val="ffff00"/>
                </a:solidFill>
                <a:latin typeface="Arial Rounded MT Bold"/>
              </a:rPr>
              <a:t> einer Schnellangriffseinricht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64440" cy="428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? PROBLEM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mehrmaliges </a:t>
            </a:r>
            <a:r>
              <a:rPr b="0" lang="de-DE" sz="3200" spc="-1" strike="noStrike">
                <a:solidFill>
                  <a:srgbClr val="fafd00"/>
                </a:solidFill>
                <a:latin typeface="Arial Rounded MT Bold"/>
              </a:rPr>
              <a:t>"Hängenbleiben"</a:t>
            </a:r>
            <a:br>
              <a:rPr sz="3200"/>
            </a:br>
            <a:r>
              <a:rPr b="0" lang="de-DE" sz="3200" spc="-1" strike="noStrike">
                <a:solidFill>
                  <a:srgbClr val="fafd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afd00"/>
                </a:solidFill>
                <a:latin typeface="Arial Rounded MT Bold"/>
              </a:rPr>
              <a:t>Länge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nicht ausreichend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afd00"/>
                </a:solidFill>
                <a:latin typeface="Arial Rounded MT Bold"/>
              </a:rPr>
              <a:t>zeitaufwe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Schnellangriffseinrichtung nur sinnvoll, wen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insatzstelle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übersichtlich,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Länge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es Angriffsweges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bekannt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und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nicht mehr als ein Rohr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zum Einsatz kom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Auslaufen der Fangle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0724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? PROBLEM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unkontrolliertes Auslauf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r Fangleine aus dem Beut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"Verheddern"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 Einrichtungsgegenständen bzw. vorgenommenen Schlauchleitu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Was ist zu tu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ei der Ausbildung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verstärkt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uf das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richtige Stopf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s Leinenbeutels acht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konstruktive Änderung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s Beutel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andere Stopfart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r Fangleine erwä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5280" y="1309680"/>
            <a:ext cx="50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c0128"/>
                </a:solidFill>
                <a:latin typeface="Arial Rounded MT Bold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26000" y="3138480"/>
            <a:ext cx="718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00"/>
                </a:solidFill>
                <a:latin typeface="Arial Rounded MT Bold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26000" y="4433760"/>
            <a:ext cx="718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00"/>
                </a:solidFill>
                <a:latin typeface="Arial Rounded MT Bold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ffff00"/>
                </a:solidFill>
                <a:latin typeface="Arial Rounded MT Bold"/>
              </a:rPr>
              <a:t>Ausfall des Überdruckbelüfters</a:t>
            </a:r>
            <a:br>
              <a:rPr sz="4300"/>
            </a:b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(Verbrennungsmotor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1160" y="1812960"/>
            <a:ext cx="6997680" cy="3917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? WARUM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elüftung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entgege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er natürlichen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Ventilation,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adurch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Rückstau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er Brandgase im Kellerabga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ungenügend große Austrittsöffnung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482b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5482b"/>
                </a:solidFill>
                <a:latin typeface="Arial Rounded MT Bold"/>
              </a:rPr>
              <a:t>Resulta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 Verrauchung der Eingangshal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Ausfall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es Überdrucklüft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  infolge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Sauerstoffmang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</a:rPr>
              <a:t>Was ist zu tu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chaffen von genügend 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großen Austrittsöffnunge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5b1b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35b1b"/>
                </a:solidFill>
                <a:latin typeface="Arial Rounded MT Bold"/>
              </a:rPr>
              <a:t>Bei Belüftung entgegen der natürlichen Ventilation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Versuch durch 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Schließen von Verbindungstüren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ese zu unt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Atemschutzeinsat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165320"/>
            <a:ext cx="6959520" cy="449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Frontalansicht</a:t>
            </a: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Kierberger Straße 1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96920" y="1501920"/>
            <a:ext cx="718200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0081"/>
                </a:solidFill>
                <a:latin typeface="Arial Rounded MT Bold"/>
              </a:rPr>
              <a:t>Verhalten der Atemschutzgeräteträg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429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keine Durchführung von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ständigen Druckkontrollen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Nichtbeachtung der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"1/3 zu 2/3 -Regel"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mangelnde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Streßresistenz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in Ausnahmesituati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0081"/>
                </a:solidFill>
                <a:latin typeface="Arial Rounded MT Bold"/>
              </a:rPr>
              <a:t>Konsequenz für die Ausbild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669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sehr großes Augenmerk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auf die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Einhaltung der Einsatzgrundsätze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bei Aus- und Fortbildung legen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Streßresistenz fördern durch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Einspielung von Zwischenfällen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während der Übungsabläufe</a:t>
            </a:r>
            <a:br>
              <a:rPr sz="3200"/>
            </a:br>
            <a:r>
              <a:rPr b="0" lang="de-DE" sz="40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r>
              <a:rPr b="0" lang="de-DE" sz="4000" spc="-1" strike="noStrike">
                <a:solidFill>
                  <a:srgbClr val="fc0128"/>
                </a:solidFill>
                <a:latin typeface="Arial Rounded MT Bold"/>
              </a:rPr>
              <a:t>"Notfalltraining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0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0081"/>
                </a:solidFill>
                <a:latin typeface="Arial Rounded MT Bold"/>
              </a:rPr>
              <a:t>Weitere Gedanken zur Ausbildu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Einsatzkräfte verschiedener Feuerwehr-abteilungen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kennen sich zu wenig,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um sich auch in Extremsituationen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richtig einschätzen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zu können.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35b1b"/>
                </a:solidFill>
                <a:latin typeface="Arial Rounded MT Bold"/>
              </a:rPr>
              <a:t>Lösung:</a:t>
            </a:r>
            <a:br>
              <a:rPr sz="2800"/>
            </a:br>
            <a:r>
              <a:rPr b="0" lang="de-DE" sz="2800" spc="-1" strike="noStrike">
                <a:solidFill>
                  <a:srgbClr val="f35b1b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-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gemeinsame Atemschutzübungen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der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  verschiedenen Abteil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- "Kameradschaftspflege" betreibe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8" dur="1" fill="hold"/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35b1b"/>
                </a:solidFill>
                <a:latin typeface="Arial Rounded MT Bold"/>
              </a:rPr>
              <a:t>Sprechfunkverkehr im Atemschutzeinsatz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Atemschutztrupps  grundsätzlich  mit </a:t>
            </a:r>
            <a:r>
              <a:rPr b="0" lang="de-DE" sz="3000" spc="-1" strike="noStrike">
                <a:solidFill>
                  <a:srgbClr val="ffff00"/>
                </a:solidFill>
                <a:latin typeface="Arial Rounded MT Bold"/>
              </a:rPr>
              <a:t>Sprechfunk im 2-m-Bereich </a:t>
            </a: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ausrüsten</a:t>
            </a:r>
            <a:br>
              <a:rPr sz="3000"/>
            </a:b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Atemschutzeinsatz  </a:t>
            </a:r>
            <a:r>
              <a:rPr b="0" lang="de-DE" sz="3000" spc="-1" strike="noStrike">
                <a:solidFill>
                  <a:srgbClr val="ffff00"/>
                </a:solidFill>
                <a:latin typeface="Arial Rounded MT Bold"/>
              </a:rPr>
              <a:t>kanalmäßig</a:t>
            </a: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  vom übrigen  Einsatzstellenfunk  </a:t>
            </a:r>
            <a:r>
              <a:rPr b="0" lang="de-DE" sz="3000" spc="-1" strike="noStrike">
                <a:solidFill>
                  <a:srgbClr val="ffff00"/>
                </a:solidFill>
                <a:latin typeface="Arial Rounded MT Bold"/>
              </a:rPr>
              <a:t>trennen</a:t>
            </a:r>
            <a:r>
              <a:rPr b="0" lang="de-DE" sz="3000" spc="-1" strike="noStrike">
                <a:solidFill>
                  <a:srgbClr val="fc0128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Beim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Aufbau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der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Führungsorgani-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sation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sollte man dieser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separate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Funkkanäle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zuwei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Arial Rounded MT Bold"/>
              </a:rPr>
              <a:t>Notsignaleinrichtung </a:t>
            </a: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mitführen</a:t>
            </a:r>
            <a:r>
              <a:rPr b="0" lang="de-DE" sz="3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Arial Rounded MT Bol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Rounded MT Bold"/>
              </a:rPr>
              <a:t>Atemschutzüberwach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zum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frühestmöglichen Zeitpunkt Registrierung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der Trupps durch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den Gruppen-/Staffelführ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Verantwortlichen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für Ausgaberegistrierung der Atemschutzgeräte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benennen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(z.B. GW-A)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konsequent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über ganzen Zeitraum des Einsatzes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fort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8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5b1b"/>
                </a:solidFill>
                <a:latin typeface="Arial Rounded MT Bold"/>
              </a:rPr>
              <a:t>Rettungstru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c0128"/>
                </a:solidFill>
                <a:latin typeface="Arial Rounded MT Bold"/>
              </a:rPr>
              <a:t>Nach FwDV 7 muß bei jedem Einsatz mindestens 1 Rettungstrupp gestellt werden.</a:t>
            </a:r>
            <a:br>
              <a:rPr sz="1200"/>
            </a:br>
            <a:r>
              <a:rPr b="0" lang="de-DE" sz="1200" spc="-1" strike="noStrike">
                <a:solidFill>
                  <a:srgbClr val="fc0128"/>
                </a:solidFill>
                <a:latin typeface="Arial Rounded MT Bol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an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unübersichtlichen Einsatzstellen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entsprechend der Situation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mehrere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bei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mehreren Einsatzabschnitten mindestens ein Trupp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pro Abschn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0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! Ausnahme 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1048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Rettungstrupp kann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Zusatzaufgab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übernehmen, wenn er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keinen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umluftunabhängigen 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Atemschutz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dazu benötigt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physisch und psychisch 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nicht über Gebühr 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belastet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wird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eine Zusatzaufgabe</a:t>
            </a:r>
            <a:r>
              <a:rPr b="0" lang="en-US" sz="2600" spc="-1" strike="noStrike">
                <a:solidFill>
                  <a:srgbClr val="fafd00"/>
                </a:solidFill>
                <a:latin typeface="Arial Rounded MT Bold"/>
              </a:rPr>
              <a:t> sofort abbrechen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kann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und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Sicht- und Rufweite 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zu seinem eigentlichen 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Bereitstellungsstandort 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ingesetzt wird.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4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Verstärkung des Atemschutztrup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14320"/>
            <a:ext cx="84582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ei </a:t>
            </a:r>
            <a:r>
              <a:rPr b="0" lang="en-US" sz="3600" spc="-1" strike="noStrike">
                <a:solidFill>
                  <a:srgbClr val="fafd00"/>
                </a:solidFill>
                <a:latin typeface="Arial Rounded MT Bold"/>
              </a:rPr>
              <a:t>besonderen Einsatzsituationen</a:t>
            </a:r>
            <a:br>
              <a:rPr sz="3600"/>
            </a:br>
            <a:br>
              <a:rPr sz="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- Kellerbränden oder Menschenrettung 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Erhöhung auf (1/2) bzw. (1/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(z. B. Angriffstrupp und Schlauchtrupp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0081"/>
                </a:solidFill>
                <a:latin typeface="Arial Rounded MT Bold"/>
              </a:rPr>
              <a:t>aber: Rettungstrupp bleibt (1/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52360" y="166680"/>
            <a:ext cx="50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 Rounded MT Bold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3160" y="166680"/>
            <a:ext cx="50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 Rounded MT Bold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! ? Weitere Gedanken ? 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Mitführen eines </a:t>
            </a:r>
            <a:r>
              <a:rPr b="0" lang="de-DE" sz="3200" spc="-1" strike="noStrike">
                <a:solidFill>
                  <a:srgbClr val="00ff00"/>
                </a:solidFill>
                <a:latin typeface="Arial Rounded MT Bold"/>
              </a:rPr>
              <a:t>Messers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an der </a:t>
            </a:r>
            <a:r>
              <a:rPr b="0" lang="de-DE" sz="3200" spc="-1" strike="noStrike">
                <a:solidFill>
                  <a:srgbClr val="00ff00"/>
                </a:solidFill>
                <a:latin typeface="Arial Rounded MT Bold"/>
              </a:rPr>
              <a:t>Einsatzkleidung</a:t>
            </a:r>
            <a:br>
              <a:rPr sz="3200"/>
            </a:br>
            <a:r>
              <a:rPr b="0" lang="de-DE" sz="3200" spc="-1" strike="noStrike">
                <a:solidFill>
                  <a:srgbClr val="00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Problematik </a:t>
            </a:r>
            <a:r>
              <a:rPr b="0" lang="de-DE" sz="3200" spc="-1" strike="noStrike">
                <a:solidFill>
                  <a:srgbClr val="f35b1b"/>
                </a:solidFill>
                <a:latin typeface="Arial Rounded MT Bold"/>
              </a:rPr>
              <a:t>privater Einsatz-</a:t>
            </a:r>
            <a:br>
              <a:rPr sz="3200"/>
            </a:br>
            <a:r>
              <a:rPr b="0" lang="de-DE" sz="3200" spc="-1" strike="noStrike">
                <a:solidFill>
                  <a:srgbClr val="f35b1b"/>
                </a:solidFill>
                <a:latin typeface="Arial Rounded MT Bold"/>
              </a:rPr>
              <a:t>ausrüstung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(Stablampen u. ä.) bedenken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Weiterer </a:t>
            </a:r>
            <a:r>
              <a:rPr b="0" lang="de-DE" sz="3200" spc="-1" strike="noStrike">
                <a:solidFill>
                  <a:srgbClr val="fc0128"/>
                </a:solidFill>
                <a:latin typeface="Arial Rounded MT Bold"/>
              </a:rPr>
              <a:t>Personalabbau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bei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den Berufsfeuerwehren noch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zu verantworte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1217520"/>
            <a:ext cx="59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ff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80240" y="2665440"/>
            <a:ext cx="59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f35b1b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7240" y="4265640"/>
            <a:ext cx="930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fc0128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8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imes New Roman"/>
              </a:rPr>
              <a:t>Feuerwehrdienstvorschrift</a:t>
            </a: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Times New Roman"/>
              </a:rPr>
              <a:t> FwDV 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720440"/>
            <a:ext cx="7759440" cy="4140360"/>
          </a:xfrm>
          <a:prstGeom prst="rect">
            <a:avLst/>
          </a:prstGeom>
          <a:noFill/>
          <a:ln w="12600">
            <a:solidFill>
              <a:srgbClr val="1b1b77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Die Feuerwehrdienstvorschriften sind  in Baden-Württemberg gemäß VwV- FwDV vom 29.06.1988 vom Innen- ministerium eingeführt und sind somit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für die Träger der Gemeindefeuer- wehren und für alle Angehörigen der Freiwilligen Feuerwehren </a:t>
            </a: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rechtsverbindlich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</a:rPr>
              <a:t>Lageskizz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LF 2 und DL 2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Kierberger Straße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- Angriff über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Haupteingang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LF 1-1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chwalbacherstraße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- Angriff über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Tiefga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56240" y="1706400"/>
            <a:ext cx="3684600" cy="4034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Atemschutzgerätetechnik</a:t>
            </a:r>
            <a:br>
              <a:rPr sz="4400"/>
            </a:br>
            <a:r>
              <a:rPr b="0" lang="de-DE" sz="4400" spc="-1" strike="noStrike">
                <a:solidFill>
                  <a:srgbClr val="fc0128"/>
                </a:solidFill>
                <a:latin typeface="Arial Rounded MT Bold"/>
              </a:rPr>
              <a:t>Atemanschlüs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Reinigung, Prüfung und Desinfektion* </a:t>
            </a:r>
            <a:r>
              <a:rPr b="0" lang="de-DE" sz="3200" spc="-1" strike="noStrike">
                <a:solidFill>
                  <a:srgbClr val="00ff00"/>
                </a:solidFill>
                <a:latin typeface="Arial Rounded MT Bold"/>
              </a:rPr>
              <a:t>nach jedem Gebra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Die Hinweise des Herstellers sind zu beach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*) Eine Desinfektion der Maske ist stets erforderlich, wenn die Maske nicht zur persönlich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usrüstung zäh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Atemschutzgerätetechnik </a:t>
            </a:r>
            <a:r>
              <a:rPr b="0" lang="de-DE" sz="4400" spc="-1" strike="noStrike">
                <a:solidFill>
                  <a:srgbClr val="fc0128"/>
                </a:solidFill>
                <a:latin typeface="Arial Rounded MT Bold"/>
              </a:rPr>
              <a:t>Pressluftatm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Monatlich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- ist die Einsatzbereitschaft der Geräte zu überwachen (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Funktion, Dichtig- keit und ausreichender Luftvorrat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). Die Ursache eines evtl. Luftverlustes ist zu klären und zu beseiti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Halbjährlich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- eingehende, den Betriebsan- leitungen der Hersteller  entsprechende Prüfung </a:t>
            </a:r>
            <a:r>
              <a:rPr b="0" lang="de-DE" sz="2800" spc="-1" strike="noStrike">
                <a:solidFill>
                  <a:srgbClr val="fafd00"/>
                </a:solidFill>
                <a:latin typeface="Arial Rounded MT Bold"/>
              </a:rPr>
              <a:t>in einer Atemschutzwerkstat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afd00"/>
                </a:solidFill>
                <a:latin typeface="Arial Rounded MT Bold"/>
              </a:rPr>
              <a:t>Atemschutzgerätetechnik </a:t>
            </a:r>
            <a:r>
              <a:rPr b="0" lang="de-DE" sz="4400" spc="-1" strike="noStrike">
                <a:solidFill>
                  <a:srgbClr val="fc0128"/>
                </a:solidFill>
                <a:latin typeface="Arial Rounded MT Bold"/>
              </a:rPr>
              <a:t>Verbesserungsmöglichkeit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2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Ablesbarkeit des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Druckmanometers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auch bei starker Verrauchung muß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verbessert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werden.</a:t>
            </a:r>
            <a:br>
              <a:rPr sz="800"/>
            </a:br>
            <a:r>
              <a:rPr b="0" lang="de-DE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füllgradabhängige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akustische oder optische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Warnung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Einsatz von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Preßluftatmern mit größerem Atemluftvolumen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(PA - Lang)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erwä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36720" y="2817720"/>
            <a:ext cx="930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36720" y="4189320"/>
            <a:ext cx="930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fc0128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66040" y="1293840"/>
            <a:ext cx="59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2" dur="1" fill="hold"/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Die Ausbildung erfolgt auf der Grundlage des Musterausbildungsplans der FwDV 2/2 Ziff. 4.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Danach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regelmäßige Unterweisungen über den Atemschutz im Rahmen der </a:t>
            </a:r>
            <a:r>
              <a:rPr b="0" lang="de-DE" sz="2800" spc="-1" strike="noStrike">
                <a:solidFill>
                  <a:srgbClr val="00ff00"/>
                </a:solidFill>
                <a:latin typeface="Arial Rounded MT Bold"/>
              </a:rPr>
              <a:t>allgemeinen Ausbildungsplä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Mindestens einmal jährlich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sind vom Geräte- träger die Anforderungen der Belastungsüb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de-DE" sz="2800" spc="-1" strike="noStrike">
                <a:solidFill>
                  <a:srgbClr val="00ff00"/>
                </a:solidFill>
                <a:latin typeface="Arial Rounded MT Bold"/>
              </a:rPr>
              <a:t>in einer Atemschutzübungsanlage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zu erfüll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afd00"/>
                </a:solidFill>
                <a:latin typeface="Arial Rounded MT Bold"/>
              </a:rPr>
              <a:t>Atemschutz</a:t>
            </a:r>
            <a:br>
              <a:rPr sz="4400"/>
            </a:br>
            <a:r>
              <a:rPr b="0" lang="de-DE" sz="4400" spc="-1" strike="noStrike">
                <a:solidFill>
                  <a:srgbClr val="fc0128"/>
                </a:solidFill>
                <a:latin typeface="Arial Rounded MT Bold"/>
              </a:rPr>
              <a:t>Aus- und Fortbild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7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75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75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75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Anforderungen der Belastungsüb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Einbau erhöhter Belastungen und Schwierigk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Abfordern von Orientierungskennt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Einhaltung von Belastungsinterv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Ausüben von dem Einsatz vergleichbarer Tätigk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Simulation einsatzmäßiger Randbeding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Verantwortlichke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Verantwortlich für die ordnungsgemäße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Durchführung des Atemschutzes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einschließlich der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Ausbildung, regelmäßiger Einsatzübung und Prüfung der Geräte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ist der </a:t>
            </a:r>
            <a:r>
              <a:rPr b="0" lang="de-DE" sz="2400" spc="-1" strike="noStrike">
                <a:solidFill>
                  <a:srgbClr val="fc0128"/>
                </a:solidFill>
                <a:latin typeface="Arial Rounded MT Bold"/>
              </a:rPr>
              <a:t>Feuerwehrkommand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c0128"/>
                </a:solidFill>
                <a:latin typeface="Arial Rounded MT Bold"/>
              </a:rPr>
              <a:t>Der Atemschutzgerätewart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hat einen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Bestands-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nachweis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zu führen. Ebenfalls hat er einen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Prüfnachweis 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zu führen in dem </a:t>
            </a:r>
            <a:r>
              <a:rPr b="0" lang="de-DE" sz="2400" spc="-1" strike="noStrike">
                <a:solidFill>
                  <a:srgbClr val="fc0128"/>
                </a:solidFill>
                <a:latin typeface="Arial Rounded MT Bold"/>
              </a:rPr>
              <a:t>alle 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vorgeschrie-</a:t>
            </a:r>
            <a:r>
              <a:rPr b="0" lang="de-DE" sz="2400" spc="-1" strike="noStrike">
                <a:solidFill>
                  <a:srgbClr val="fc0128"/>
                </a:solidFill>
                <a:latin typeface="Arial Rounded MT Bold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benen Prüfungen und wesentlichen Reparaturen einzutragen s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3" dur="1" fill="hold"/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Schlußbemerk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33440"/>
            <a:ext cx="86868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c0081"/>
                </a:solidFill>
                <a:latin typeface="Arial Rounded MT Bold"/>
              </a:rPr>
              <a:t>	</a:t>
            </a:r>
            <a:r>
              <a:rPr b="0" lang="de-DE" sz="3000" spc="-1" strike="noStrike">
                <a:solidFill>
                  <a:srgbClr val="dc0081"/>
                </a:solidFill>
                <a:latin typeface="Arial Rounded MT Bold"/>
              </a:rPr>
              <a:t>Ein solch tragischer Unfall bietet Anlaß, sich mit seinem Hergang kritisch auseinanderzusetzen, um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aus den gewonnenen Erkenntnissen notwendige Lehren  zu ziehen</a:t>
            </a:r>
            <a:br>
              <a:rPr sz="3000"/>
            </a:b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und diese konsequent in der Geräteprüfung, Ausbildung bzw. Einsatztätigkeit umzusetze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Unfallkom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D Maurer - Köl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 Backes - Köl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 Jungverdorben - Köl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BM Kohlberg - Köln (P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hwägergen - Köln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Fachkraft für Arbeitssicherhei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D Rechenbach - Hambu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D Kircher - Ber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R Cimolino - Düsseldor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48320" y="2179800"/>
          <a:ext cx="383544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79800"/>
                    <a:ext cx="383544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            </a:t>
            </a:r>
            <a:r>
              <a:rPr b="0" lang="de-DE" sz="6000" spc="-1" strike="noStrike">
                <a:solidFill>
                  <a:srgbClr val="ffff00"/>
                </a:solidFill>
                <a:latin typeface="Arial Rounded MT Bold"/>
              </a:rPr>
              <a:t>- lichen Dank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3809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ür Ihre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ufmerksam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53000" y="2411280"/>
          <a:ext cx="382572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3000" y="2411280"/>
                    <a:ext cx="382572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257480" y="581040"/>
            <a:ext cx="1454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Einsatzablauf: Phase 1     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81160"/>
            <a:ext cx="45720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Alarm: Kellerbrand in 24-geschossigem  Hochh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 Rounded MT Bold"/>
              </a:rPr>
              <a:t>2 LF, DL, TroTLF,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 Rounded MT Bold"/>
              </a:rPr>
              <a:t> GW-A, RTW -  AdE: Kellertreppe leicht verraucht - keine Hinweise auf  gefährdete Pers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1. Entschluß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a) Schnellangriff über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    Treppe - 3er Trupp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b) C-Rohr über Tiefgar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110200" y="1414440"/>
          <a:ext cx="276048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0200" y="1414440"/>
                    <a:ext cx="27604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Weitere Lageentwicklu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Pha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zweiter Eindruck: starke Verrauchung im Kellergescho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uch breitet sich im Gebäude über Flur und Eingangsbereich a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ehrere Bewohner fühlen sich durch Rauch gefährd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563640" cy="406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" dur="1" fill="hold"/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Weiterer Einsatzablau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Rettungstrupp lüftet Treppenra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Überdruckbelüfter im Eingangsbereich "versagt"- Bereich verrau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Einsatzleiter  erhöht  auf  "Feuer 3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Frau und Kind von Vordach geret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Schwerschaumeinsatz im Ke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Rettung von mehreren Einsatzkräften !  !  !  ! 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381480" y="0"/>
          <a:ext cx="54464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1480" y="0"/>
                    <a:ext cx="54464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95320" y="380520"/>
            <a:ext cx="3962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Einsatzen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Brand gelös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2 Hausbewohner geret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1 Feuerwehrangehöriger geret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1 Feuerwehrangehöriger konnt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   sich gerade noch selbst  re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1 Feuerwehrangehöriger  wurd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   leblos gerettet und mußt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   reanimiert werden . .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8880" y="457200"/>
          <a:ext cx="345744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457200"/>
                    <a:ext cx="34574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andmeister  Andreas Stamp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r verstarb 29-jährig drei Tage nach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em Kellerbrand "Kierberger Str. 15",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ohne das Bewußtsein wiedererlangt zu haben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62240" y="1074600"/>
            <a:ext cx="2692440" cy="33703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Was war gescheh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67320" y="1185840"/>
          <a:ext cx="307800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7320" y="1185840"/>
                    <a:ext cx="30780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0T13:03:54Z</dcterms:created>
  <dc:creator>USER</dc:creator>
  <dc:description/>
  <dc:language>en-US</dc:language>
  <cp:lastModifiedBy>heuss</cp:lastModifiedBy>
  <cp:lastPrinted>1997-03-21T14:07:38Z</cp:lastPrinted>
  <dcterms:modified xsi:type="dcterms:W3CDTF">2007-03-07T15:50:05Z</dcterms:modified>
  <cp:revision>18</cp:revision>
  <dc:subject/>
  <dc:title>Tödlicher Unfall "Köln" 6.3.96 - Kierberger Straße 15  Konsequenzen  für Ausbildung  und Einsatz</dc:title>
</cp:coreProperties>
</file>