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91B5-107A-4B40-9649-B6C1F7D60D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e Vorstel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rson, feuerwehrtechnische Funktio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sserl was über atemschutzunfaelle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ölner Unfall = erster richtig aufgearbeiteter U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s Erdgeschoss stellt sich als stark verraucht heraus. Die enorme Hitzeentwicklung führt dazu, dass sich der ATr 2-3 m zurück zieht. Kurze Wasserabgabe: Nutz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Rauchentwicklung im Gebäude führt zu Gefährdungsempfinden der Hausbewohner. Mehrere Anrufe. Unter anderem aus dem 22.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üfter in der Vorhalle verliert an Leistung. Vorhalle verraucht völlig. Rücknahme des Lüfters unter Filtereinsatz und Positionierung vor der Eingangshalle. Keine Verbesserung der Sichtverhältnis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armstufe erhöht auf Feu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lbsterklärend, denke 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m Vordach wurde ein Kind und eine ältere blinde Dame mit Verdacht auf Rauchgasintox gerett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dung „Hänge fest“ kommt beim Übergang von Kellerraum zu Treppenra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efreiungsversuch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Atm stellt fest, dass BM Stampe in Feuerwehrleine festhän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tteilung an BM Stampe. Keine Reaktion und keine Mithilfe an der Befrei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eine permanent unter Zu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uch, am Gürtel von BM Stampe ein Messer zu ertasten. BM Stampe sackt bewusstlos zusam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uche nach Messer erfolg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M zog zwischendurch Handschuhe aus -&gt; starke Verbrühu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usammentreffen ATM LF3 und ATF LF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M LF3 hatte die geforderten Gerätschaften zufällig bei s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r der Vorhalle treffen die beiden zusam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M LF3 rechnete nicht damit vorgehen zu müssen -&gt; Gerät noch nicht angeschlos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meinsames Vorgehen mit ATF LF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rät LF2 leer. Rückzug dessel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uftnot -&gt; Maske im verrauchten Bereich abgesetz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ingetrübte Wahrnehm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uffinden durch RettTr, Rettung ins Freie. Einweisung des Rett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ATM LF2 verliert bei Rettung auch zuviel Luft. Rückzug. Auch er verirrt sich in der Vorhalle und muss durch RettTr nach außen gebrach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wischenzeitliche Versuche, BM Stampe allein zu retten durch ATM L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ttTr hatte sich zwischendurch in der Vorhalle verlo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M LF3 zieht sich wg. Starker Rauch- und Hitzentwicklung und fehlender Kommunikation zurü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satz weiterer Rettungstru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 LF 12 und ein Mitglied des RettTr finden BM Stampe und bringen ihn nach drauß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M Stampe soll nicht umsonst gestorben sein. Unfallanalyse und bestreben, die Erkenntnisse der Öffentlichkeit zur Verfügung zu stel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iel: Lernen aus dem Vorfall. Vermeiden, gleicher Unfä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kennen von Schwachstellen im Atemschutzwe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fallkomi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D Maurer,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Backes,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ungverdorben,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BM Kolberg,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r. Schwägergen,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D Kirchner, BF Ber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D Rechenbach, BF Ham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R Cimolino, BF Düsseldo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ze Erläuterung der einzelnen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e Erläuterung der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fallmanagement, Kommunikation und Ausbildung wird später behand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rüstung: Bsp. Bewegungsmelder, FuG, Schutzkleidung, Rettungsme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hrung: Während des Einsatzes Führungsdurchgriff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ntilation: Vorhalle permanent verraucht. Keine Maßnahmen zur Entrauchung (Einschlagen der Scheiben etc). Lüfter entgegen natürlicher Luftrichtung (aus Richtung Tiefgar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ringes Personal. Massiver Personaleinsatz zur Rettung erst spät (auch aufgrund des späten Bemerkens der Sit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alitätsmanagement: Aufbereitung von Einsätzen. Erkennen von Schwachstellen. Viele der Fehler wurden bereits bei vorhergehenden Einsätzen erkannt, aber aufgrund fehlender Nachbearbeitung nicht behandelt und nicht weiterkommuniz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ze Erläuterung zu den einzelnen Punk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bildungskatalog ausdrucken und beileg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bildung muss sich generell mehr an den Anforderungen der Realität orient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chen und Re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randbekämpfung unter realistischen Beding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chtige Mischung von „Trockenübungen“, Gas- und Holzbefeuerter Ausbil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Übungen unter Nullsicht mit Streßfaktoren (ausgelöster Bewegungsmelder, Notfallsituationen, Lärm, Zeitdru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mm-Konzept: Verweis auf Cimolino Präsentation www.feuerwehrmann.de - &gt; Nützliches (div. Literat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cherstellung Funkverbindung durch technische Maßnahmen (Gebäudefunk) oder ggf. Zwischenposten (! Stille Post 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k an alle Mitwirk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ja.. Sollte so recht eindeutig s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rmkette gemäß Feuer 1 BF Kö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ze Erläuterung der Punkte. Verweis auf folgende Graf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etzt wird’s amüsant. Der Einsatzablauf im einzel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stellung der Lage. Hinweis: Vorhalle rauchfre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schluss: Vorgehen des ATr LF 2 mit HD Schnellangriff durch die Vorhallen in den Kellerabgang. Kellertür mit Hilfe von Schlüssel von Hausmeister geöffnet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tgleich Vorgehen vom LF 1.-1 mittels C- Rohr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ttungstrupp gestellt im Bereich LF 1-1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r Zwischenzeit leichte Verrauchung der Vorhalle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 LF2 -&gt; Verdrehung des SA, BM Stampe kehrt allein zurück, um ihn nachzuzi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fristige Verlängerung des Angriffsweges –&gt; Rückzug und Nachforderung von Verteiler und C – Rohr (wurde bereits entsprechend Löschkonzept von Maschinist LF2 und Ma DL2 bereit gelegt)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nahme von 1. Rohr durch ATr LF2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stellungbringen von Lüfter in Vorra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fristige Entrauchung des Treppenabg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hrnehmung von Brandgeräuschen durch ATr LF2 und Wahrnehmung von Arbeitsgeräuschen des ATr LF 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etzt wird’s amüsant. Der Einsatzablauf im einzel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stellung der Lage. Hinweis: Vorhalle rauchfre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schluss: Vorgehen des ATr LF 2 mit HD Schnellangriff durch die Vorhallen in den Kellerabgang. Kellertür mit Hilfe von Schlüssel von Hausmeister geöffnet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tgleich Vorgehen vom LF 1.-1 mittels C- Rohr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ttungstrupp gestellt im Bereich LF 1-1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r Zwischenzeit leichte Verrauchung der Vorhalle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 LF2 -&gt; Verdrehung des SA, BM Stampe kehrt allein zurück, um ihn nachzuzie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fristige Verlängerung des Angriffsweges –&gt; Rückzug und Nachforderung von Verteiler und C – Rohr (wurde bereits entsprechend Löschkonzept von Maschinist LF2 und Ma DL2 bereit gelegt)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nahme von 1. Rohr durch ATr LF2 (k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stellungbringen von Lüfter in Vorra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rzfristige Entrauchung des Treppenabg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hrnehmung von Brandgeräuschen durch ATr LF2 und Wahrnehmung von Arbeitsgeräuschen des ATr LF 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6E6-F000-43B0-BF84-64CA8184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6C9-171E-4A43-B7D8-D90186D8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B86-C512-4152-A997-A37ABAEB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B53-6665-4D49-A701-C87B96D5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A1B-B5DB-458B-AEEF-1AEA7E53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03C-91C5-4C86-A05D-44C8A6FC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4BD-493F-4753-8826-6D71C413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CA8-42B4-434A-8308-F1A0CDB1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895-C3AF-4ABB-A339-F9BA0E8A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A42-E76D-4A6A-B3EA-65C270E6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561-F789-4DF6-AE34-DA7257E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948-1EBF-4DE5-9B1B-432A14BE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63640" cy="3068640"/>
          </a:xfrm>
          <a:prstGeom prst="rect">
            <a:avLst/>
          </a:prstGeom>
          <a:solidFill>
            <a:srgbClr val="b3d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AA83-CFED-4ECE-ACF1-BDBCFE1E9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3995640" cy="544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380360" y="3789360"/>
            <a:ext cx="1763640" cy="3068640"/>
          </a:xfrm>
          <a:prstGeom prst="rect">
            <a:avLst/>
          </a:prstGeom>
          <a:solidFill>
            <a:srgbClr val="b3d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148360" y="1413000"/>
            <a:ext cx="3995640" cy="544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080" y="6613560"/>
            <a:ext cx="75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stellt im September 2004 – Dipl.Ing (FH) Ingo Hor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Brandmeister Stampe – Ein Unfall und seine Konsequenz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feuerwehr.de/" TargetMode="External"/><Relationship Id="rId2" Type="http://schemas.openxmlformats.org/officeDocument/2006/relationships/hyperlink" Target="http://www.atemschutzunfaelle.de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3995640" cy="2995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meister Stam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 war er und was kann er heute noch für uns t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 Unfall und seine Konsequen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terer Einsatzverla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kenntnis: Kellergeschoss stark verra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uchausbreitung im Gebä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fährdungsempfinden bei Bewohnern im Gebäude (z.B. Meldung „akute Atemnot“ von Bewohnern im 22.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üfter in der Vorhalle verliert an Leistu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ollkommene Verrauchung der Vorha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höhung der Alarmstufe. Weitere Kräfte treffen 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tere Maßna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kundung des Treppenraumes durch 2 FA des Rettungstru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tungstrupp wird durch Maschinist DL2 zu 1/1 ergän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nahme eines Schaumangriffes über die Tiefgarage: Besatzung LF 3, unterstützt durch Rettungstrupp (hat zu diesem Zeitpunkt kein Funkgerä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tung von Personen auf dem Vordach mittels tragbarer Leitern durch ZF LF2, Fahrzeugführer D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e des Angriffstru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65360" y="5224320"/>
            <a:ext cx="4667400" cy="110340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dung nach auß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 Person hängt fe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äte fast le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Bestät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441600" y="1227240"/>
            <a:ext cx="2913120" cy="1324080"/>
            <a:chOff x="3441600" y="1227240"/>
            <a:chExt cx="2913120" cy="1324080"/>
          </a:xfrm>
        </p:grpSpPr>
        <p:sp>
          <p:nvSpPr>
            <p:cNvPr id="233" name=""/>
            <p:cNvSpPr/>
            <p:nvPr/>
          </p:nvSpPr>
          <p:spPr>
            <a:xfrm>
              <a:off x="3441600" y="1227240"/>
              <a:ext cx="2913120" cy="11048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rtöne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es Restdruckwarner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es PA bei ATr LF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33" idx="2"/>
              <a:endCxn id="235" idx="0"/>
            </p:cNvCxnSpPr>
            <p:nvPr/>
          </p:nvCxnSpPr>
          <p:spPr>
            <a:xfrm>
              <a:off x="4898880" y="2332080"/>
              <a:ext cx="8640" cy="21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6" name=""/>
          <p:cNvGrpSpPr/>
          <p:nvPr/>
        </p:nvGrpSpPr>
        <p:grpSpPr>
          <a:xfrm>
            <a:off x="3309840" y="2550960"/>
            <a:ext cx="3194280" cy="1367280"/>
            <a:chOff x="3309840" y="2550960"/>
            <a:chExt cx="3194280" cy="1367280"/>
          </a:xfrm>
        </p:grpSpPr>
        <p:sp>
          <p:nvSpPr>
            <p:cNvPr id="235" name=""/>
            <p:cNvSpPr/>
            <p:nvPr/>
          </p:nvSpPr>
          <p:spPr>
            <a:xfrm>
              <a:off x="3309840" y="2550960"/>
              <a:ext cx="3194280" cy="11192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schluss: Rückzu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ldung nach auß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eine Bestätig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" name=""/>
            <p:cNvCxnSpPr>
              <a:stCxn id="235" idx="2"/>
              <a:endCxn id="238" idx="0"/>
            </p:cNvCxnSpPr>
            <p:nvPr/>
          </p:nvCxnSpPr>
          <p:spPr>
            <a:xfrm flipH="1">
              <a:off x="4905000" y="3670200"/>
              <a:ext cx="2160" cy="24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9" name=""/>
          <p:cNvGrpSpPr/>
          <p:nvPr/>
        </p:nvGrpSpPr>
        <p:grpSpPr>
          <a:xfrm>
            <a:off x="3319560" y="3917880"/>
            <a:ext cx="3170160" cy="1306080"/>
            <a:chOff x="3319560" y="3917880"/>
            <a:chExt cx="3170160" cy="1306080"/>
          </a:xfrm>
        </p:grpSpPr>
        <p:sp>
          <p:nvSpPr>
            <p:cNvPr id="238" name=""/>
            <p:cNvSpPr/>
            <p:nvPr/>
          </p:nvSpPr>
          <p:spPr>
            <a:xfrm>
              <a:off x="3319560" y="3917880"/>
              <a:ext cx="3170160" cy="1062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ldung BM Stam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änge fest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"/>
            <p:cNvCxnSpPr>
              <a:stCxn id="238" idx="2"/>
              <a:endCxn id="231" idx="0"/>
            </p:cNvCxnSpPr>
            <p:nvPr/>
          </p:nvCxnSpPr>
          <p:spPr>
            <a:xfrm flipH="1">
              <a:off x="4898520" y="4979520"/>
              <a:ext cx="7200" cy="24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2120" y="1662120"/>
            <a:ext cx="3089520" cy="79200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frage nach Me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Bestät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81280" y="1562040"/>
            <a:ext cx="4407120" cy="974880"/>
            <a:chOff x="4481280" y="1562040"/>
            <a:chExt cx="4407120" cy="974880"/>
          </a:xfrm>
        </p:grpSpPr>
        <p:sp>
          <p:nvSpPr>
            <p:cNvPr id="244" name=""/>
            <p:cNvSpPr/>
            <p:nvPr/>
          </p:nvSpPr>
          <p:spPr>
            <a:xfrm>
              <a:off x="6370560" y="1562040"/>
              <a:ext cx="2517840" cy="974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fgenommen du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hrere F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2" idx="3"/>
              <a:endCxn id="244" idx="1"/>
            </p:cNvCxnSpPr>
            <p:nvPr/>
          </p:nvCxnSpPr>
          <p:spPr>
            <a:xfrm flipV="1">
              <a:off x="4481280" y="2049120"/>
              <a:ext cx="188964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6" name=""/>
          <p:cNvGrpSpPr/>
          <p:nvPr/>
        </p:nvGrpSpPr>
        <p:grpSpPr>
          <a:xfrm>
            <a:off x="6105600" y="2536920"/>
            <a:ext cx="3038400" cy="1311120"/>
            <a:chOff x="6105600" y="2536920"/>
            <a:chExt cx="3038400" cy="1311120"/>
          </a:xfrm>
        </p:grpSpPr>
        <p:sp>
          <p:nvSpPr>
            <p:cNvPr id="247" name=""/>
            <p:cNvSpPr/>
            <p:nvPr/>
          </p:nvSpPr>
          <p:spPr>
            <a:xfrm>
              <a:off x="6105600" y="3033720"/>
              <a:ext cx="3038400" cy="814320"/>
            </a:xfrm>
            <a:prstGeom prst="flowChartPredefinedProcess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sendung 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tungstrup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d des ATM des LF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4" idx="2"/>
              <a:endCxn id="247" idx="0"/>
            </p:cNvCxnSpPr>
            <p:nvPr/>
          </p:nvCxnSpPr>
          <p:spPr>
            <a:xfrm flipH="1">
              <a:off x="7624080" y="2536920"/>
              <a:ext cx="5400" cy="49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49" name=""/>
          <p:cNvGrpSpPr/>
          <p:nvPr/>
        </p:nvGrpSpPr>
        <p:grpSpPr>
          <a:xfrm>
            <a:off x="1887480" y="2453760"/>
            <a:ext cx="2089080" cy="1154520"/>
            <a:chOff x="1887480" y="2453760"/>
            <a:chExt cx="2089080" cy="1154520"/>
          </a:xfrm>
        </p:grpSpPr>
        <p:sp>
          <p:nvSpPr>
            <p:cNvPr id="250" name=""/>
            <p:cNvSpPr/>
            <p:nvPr/>
          </p:nvSpPr>
          <p:spPr>
            <a:xfrm>
              <a:off x="1887480" y="2944800"/>
              <a:ext cx="2089080" cy="663480"/>
            </a:xfrm>
            <a:prstGeom prst="flowChartProcess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F begibt si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f den Rückw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"/>
            <p:cNvCxnSpPr>
              <a:stCxn id="242" idx="2"/>
              <a:endCxn id="250" idx="0"/>
            </p:cNvCxnSpPr>
            <p:nvPr/>
          </p:nvCxnSpPr>
          <p:spPr>
            <a:xfrm flipH="1">
              <a:off x="2931480" y="2453760"/>
              <a:ext cx="5400" cy="49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2" name=""/>
          <p:cNvGrpSpPr/>
          <p:nvPr/>
        </p:nvGrpSpPr>
        <p:grpSpPr>
          <a:xfrm>
            <a:off x="798480" y="119160"/>
            <a:ext cx="4313160" cy="1543320"/>
            <a:chOff x="798480" y="119160"/>
            <a:chExt cx="4313160" cy="1543320"/>
          </a:xfrm>
        </p:grpSpPr>
        <p:sp>
          <p:nvSpPr>
            <p:cNvPr id="253" name=""/>
            <p:cNvSpPr/>
            <p:nvPr/>
          </p:nvSpPr>
          <p:spPr>
            <a:xfrm>
              <a:off x="798480" y="119160"/>
              <a:ext cx="4313160" cy="954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reiungsversuche schlagen feh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M Stampe wird bewusstlos und sack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usam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" name=""/>
            <p:cNvCxnSpPr>
              <a:stCxn id="253" idx="2"/>
              <a:endCxn id="242" idx="0"/>
            </p:cNvCxnSpPr>
            <p:nvPr/>
          </p:nvCxnSpPr>
          <p:spPr>
            <a:xfrm flipH="1">
              <a:off x="2936160" y="1073160"/>
              <a:ext cx="19800" cy="58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5" name=""/>
          <p:cNvGrpSpPr/>
          <p:nvPr/>
        </p:nvGrpSpPr>
        <p:grpSpPr>
          <a:xfrm>
            <a:off x="2932200" y="3608280"/>
            <a:ext cx="4692240" cy="1679760"/>
            <a:chOff x="2932200" y="3608280"/>
            <a:chExt cx="4692240" cy="1679760"/>
          </a:xfrm>
        </p:grpSpPr>
        <p:sp>
          <p:nvSpPr>
            <p:cNvPr id="256" name=""/>
            <p:cNvSpPr/>
            <p:nvPr/>
          </p:nvSpPr>
          <p:spPr>
            <a:xfrm>
              <a:off x="3168720" y="4349880"/>
              <a:ext cx="2841480" cy="938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usammentreff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M LF3 und ATF L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der Vorha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"/>
            <p:cNvCxnSpPr>
              <a:stCxn id="250" idx="2"/>
              <a:endCxn id="256" idx="0"/>
            </p:cNvCxnSpPr>
            <p:nvPr/>
          </p:nvCxnSpPr>
          <p:spPr>
            <a:xfrm>
              <a:off x="2932200" y="3608280"/>
              <a:ext cx="1658160" cy="74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7" idx="2"/>
              <a:endCxn id="256" idx="0"/>
            </p:cNvCxnSpPr>
            <p:nvPr/>
          </p:nvCxnSpPr>
          <p:spPr>
            <a:xfrm flipH="1">
              <a:off x="4588920" y="3848040"/>
              <a:ext cx="3035880" cy="50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9" name=""/>
          <p:cNvGrpSpPr/>
          <p:nvPr/>
        </p:nvGrpSpPr>
        <p:grpSpPr>
          <a:xfrm>
            <a:off x="2982960" y="5287680"/>
            <a:ext cx="3195720" cy="941760"/>
            <a:chOff x="2982960" y="5287680"/>
            <a:chExt cx="3195720" cy="941760"/>
          </a:xfrm>
        </p:grpSpPr>
        <p:sp>
          <p:nvSpPr>
            <p:cNvPr id="260" name=""/>
            <p:cNvSpPr/>
            <p:nvPr/>
          </p:nvSpPr>
          <p:spPr>
            <a:xfrm>
              <a:off x="2982960" y="5619600"/>
              <a:ext cx="3195720" cy="609840"/>
            </a:xfrm>
            <a:prstGeom prst="flowChartPredefinedProcess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inweisung ATM LF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ückzug ATF L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56" idx="2"/>
              <a:endCxn id="260" idx="0"/>
            </p:cNvCxnSpPr>
            <p:nvPr/>
          </p:nvCxnSpPr>
          <p:spPr>
            <a:xfrm flipH="1">
              <a:off x="4580640" y="5287680"/>
              <a:ext cx="9000" cy="33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705040" y="1438200"/>
            <a:ext cx="3540240" cy="1082880"/>
          </a:xfrm>
          <a:prstGeom prst="flowChartPredefined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reiung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 Stampe mitt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gebrachtem Me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375000" y="279360"/>
            <a:ext cx="2195640" cy="1159200"/>
            <a:chOff x="3375000" y="279360"/>
            <a:chExt cx="2195640" cy="1159200"/>
          </a:xfrm>
        </p:grpSpPr>
        <p:sp>
          <p:nvSpPr>
            <p:cNvPr id="264" name=""/>
            <p:cNvSpPr/>
            <p:nvPr/>
          </p:nvSpPr>
          <p:spPr>
            <a:xfrm>
              <a:off x="3375000" y="279360"/>
              <a:ext cx="2195640" cy="857160"/>
            </a:xfrm>
            <a:prstGeom prst="flowChartProcess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ffinden 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tlichen AT L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rch ATM LF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"/>
            <p:cNvCxnSpPr>
              <a:stCxn id="264" idx="2"/>
              <a:endCxn id="262" idx="0"/>
            </p:cNvCxnSpPr>
            <p:nvPr/>
          </p:nvCxnSpPr>
          <p:spPr>
            <a:xfrm>
              <a:off x="4473720" y="1136520"/>
              <a:ext cx="2160" cy="30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2835360" y="2539800"/>
            <a:ext cx="3184560" cy="1613160"/>
            <a:chOff x="2835360" y="2539800"/>
            <a:chExt cx="3184560" cy="1613160"/>
          </a:xfrm>
        </p:grpSpPr>
        <p:sp>
          <p:nvSpPr>
            <p:cNvPr id="267" name=""/>
            <p:cNvSpPr/>
            <p:nvPr/>
          </p:nvSpPr>
          <p:spPr>
            <a:xfrm>
              <a:off x="2835360" y="3133800"/>
              <a:ext cx="3184560" cy="1019160"/>
            </a:xfrm>
            <a:prstGeom prst="flowChartProcess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port nach auß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nimation BM Stam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" name=""/>
            <p:cNvCxnSpPr>
              <a:stCxn id="262" idx="2"/>
              <a:endCxn id="267" idx="0"/>
            </p:cNvCxnSpPr>
            <p:nvPr/>
          </p:nvCxnSpPr>
          <p:spPr>
            <a:xfrm flipH="1">
              <a:off x="4426920" y="2539800"/>
              <a:ext cx="396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9" name=""/>
          <p:cNvSpPr/>
          <p:nvPr/>
        </p:nvSpPr>
        <p:spPr>
          <a:xfrm>
            <a:off x="745560" y="4552920"/>
            <a:ext cx="731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beiden restlichen Truppmitglieder des AT LF2 mussten v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tungstrupp aus der Vorhalle nach draußen geführt werden, weil 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Orientierung verloren ha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Luftmangel musste der ATM des LF2 sogar seine Maske kurz v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assen des verrauchten Bereiches absetz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9.03.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dmeister Andreas Stampe verstir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jährig, ohne jemals wieder 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wusstsein erlangt zu hab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Zeit nach dem Un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direkten Fol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ben den staatsanwaltlichen Ermittlungen wird eine unabhängige Unfallkomission gegründet, die den Unfall lückenlos aufarbeiten s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dabei gewonnen Erkenntnisse werden der breiten Öffentlichkeit zugänglich gem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7140600" y="1557360"/>
            <a:ext cx="1649520" cy="369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>
                        <a:alpha val="40000"/>
                      </a:srgbClr>
                    </a:gs>
                    <a:gs pos="100000">
                      <a:srgbClr val="4d0808">
                        <a:alpha val="4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>
                      <a:alpha val="40000"/>
                    </a:srgbClr>
                  </a:gs>
                  <a:gs pos="100000">
                    <a:srgbClr val="4d0808">
                      <a:alpha val="40000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kannte Schwach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5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ückzugszeit zu knapp beme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ehlende, bzw. mangelhafte Verbindung von ATF zur Außenw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gelnde Streßre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rauchung der Vorh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 des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laufende Feuerwehrl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958160" y="1557360"/>
            <a:ext cx="831960" cy="369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>
                        <a:alpha val="40000"/>
                      </a:srgbClr>
                    </a:gs>
                    <a:gs pos="100000">
                      <a:srgbClr val="4d0808">
                        <a:alpha val="4000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>
                      <a:alpha val="40000"/>
                    </a:srgbClr>
                  </a:gs>
                  <a:gs pos="100000">
                    <a:srgbClr val="4d0808">
                      <a:alpha val="40000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arbeitete Lösungsansät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mschutzüberwachung (konsequent, von Anfang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Änderungen in der Anwendung des Rettungstrupps (Notfall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weiterung der Atemschutzausbil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tellung von Kommunikationskonzep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weiterung und Anpassung der Ausrüs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haltung von Führungsgrundsä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bildung in Grundlagen der Vent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anpassung bei entsprechenden Einsatzl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ätsmanagement, Einsatznachber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ilderung des Unfallherg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achbearbeitung des Unf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gebnisse der Unfallko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ritische Betrachtung der Umsetz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von Notfä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4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ung von Konzepten zur Kameradenrettung (SiTr Konze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bildung von Aufgaben des Si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equentes Stellen des Si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Tr nicht für anderweitige Aufgaben einse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weiterte Ausrüstung für Si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sonal- und Gerätereserve an Einsatzstellen beachten, um in Notfällen eingreifen zu kö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SiTr ist im Unglücksfall unter Umständen nicht ausreich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passung der Ausbil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ungen realitätsnah gestalten (Kompensation mangelnder Einsatzprax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orderungen an die Ausbildung sind in Abschnitt 6 FwDv7 (Stand 2002) festgeschr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nsibilisierung der AGT für die Gefahren des Atemschutzeinsat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ffung von Streßresistenz durch gute und realitätsnahe Ausbil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itteln der Grundlagen der Vent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724800" y="1289160"/>
            <a:ext cx="241920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munik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nd. 1 FuG pro Atemschutztrupp (auch festgeschrieben in Dv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führung und Einhaltung von Kommunikationskonzep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cherstellung der Funkver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576760" y="1305000"/>
            <a:ext cx="32353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hat man bereits aus Unfällen geler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050840" y="1494000"/>
            <a:ext cx="642960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629320" y="1268280"/>
            <a:ext cx="3489120" cy="459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>
                        <a:alpha val="49019"/>
                      </a:srgbClr>
                    </a:gs>
                    <a:gs pos="100000">
                      <a:srgbClr val="fff200">
                        <a:alpha val="49019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>
                      <a:alpha val="49019"/>
                    </a:srgbClr>
                  </a:gs>
                  <a:gs pos="100000">
                    <a:srgbClr val="fff200">
                      <a:alpha val="49019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neuerung FwDv7 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undlegende erweiterte Festlegungen bezüglich der Ausbildung von AGT (Themenkatalog, festgeschriebene praktische Übung, jährliche Unterweisu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estlegung von Ausrüstungsgegenständen (1 FuG / Trupp, Empfehlung von Bewegungsmeld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emschutzüberwach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usbildungskatalog FwDV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33640"/>
            <a:ext cx="5835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habung 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ische Belas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rperliche Belas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öhn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ung von Einsatztätigk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en und R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nehmen von Strahlrohren und Schläu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geben von Meldungen über Funk us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fall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383160" y="1289160"/>
            <a:ext cx="239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öffentlichung von Unfä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136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mer häufiger ausführliche Unfallberichte in Fachzeitschriften u.Ä. (vgl. Untergrombach, Moabit u.Ä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chsendes Bewusstsein für Ge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äufigere, freiwillige, Meldungen von Unfallgeschehnissen an www.atemschutzunfaelle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15000" y="4254480"/>
            <a:ext cx="24271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e funktioniert die Umsetzung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frage mit 82 Teilnehm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8880" y="18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urden Informationen zum Unfall privat, oder durch die Feuerwehr erlang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urden die Untersuchungsergebnisse in der eigenen Wehr bekannt ge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Unfälle Thema in der eigenen Weh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istiert ein SiTr Konzept, wird dieser gestellt und entsprechend ausgebild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die Ausbildungen nach FwDv7 ge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die ASÜ konsequent durchgezo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folgt Ausbildung in Venti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handene Schutzkleid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frageergebni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kanntgabe der Unfallergebnisse in 28% der befragten We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equenzen in 25% der We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fälle heute bei 56% der befragten ein T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Tr Konzept bei 47% vorh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Tr stellen 7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Tr Ausbildung bei 6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bildung nach FwDv7: 7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Ü: 7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bildung in Ventilation: 4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frageergebni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jacke (HuPF 1 oder Typ Bw, Niedersachsen o. Bayern):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hose: 5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lammschutzhaube: 8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randschutzhandschuhe: 7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Ei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360" y="1125360"/>
            <a:ext cx="22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6.03.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:42 U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67560" y="234936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armierung der Feuerwehr Kö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ierberger Straße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ldeter Kellerbrand in 24stöckigem Wohngebä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lenanga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lussbericht der Unfallkomission (04/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äsentation LFS Baden Württem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net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euerwehr.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ws.feuerwehrmann.de,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temschutzunfaelle.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963720" y="395280"/>
            <a:ext cx="75373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Alarmk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F (LF 1-1,LF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TroTLF (Tro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L (DL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G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R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Lage beim Eintreffen der ersten Krä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4 geschossiges Wohnh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raum des Hochhauses rauchfr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llertreppe leicht verqual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gefährdeten Personen erkenn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Rauchentwicklung von der Frontseite erkenn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randort nicht bekan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Beunruhigung der Bewohner des H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betroffene Gebä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87480" y="1749600"/>
            <a:ext cx="71690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3080" y="1670040"/>
            <a:ext cx="2445840" cy="1956600"/>
            <a:chOff x="3043080" y="1670040"/>
            <a:chExt cx="2445840" cy="1956600"/>
          </a:xfrm>
        </p:grpSpPr>
        <p:sp>
          <p:nvSpPr>
            <p:cNvPr id="69" name=""/>
            <p:cNvSpPr/>
            <p:nvPr/>
          </p:nvSpPr>
          <p:spPr>
            <a:xfrm>
              <a:off x="3043080" y="202608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75160" y="167004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98320" y="241632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70800" y="223848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23840" y="2598840"/>
              <a:ext cx="103428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53560" y="173016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eskiz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5013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5661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16360" y="1557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268360" y="1557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013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132000" y="1557360"/>
            <a:ext cx="3024360" cy="2303280"/>
            <a:chOff x="3132000" y="1557360"/>
            <a:chExt cx="3024360" cy="2303280"/>
          </a:xfrm>
        </p:grpSpPr>
        <p:sp>
          <p:nvSpPr>
            <p:cNvPr id="85" name=""/>
            <p:cNvSpPr/>
            <p:nvPr/>
          </p:nvSpPr>
          <p:spPr>
            <a:xfrm>
              <a:off x="3203640" y="1557360"/>
              <a:ext cx="2952720" cy="23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32000" y="2278080"/>
              <a:ext cx="14472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427640" y="3933720"/>
            <a:ext cx="5032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40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59080" y="416880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fahrt Tiefga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4435200">
            <a:off x="2154960" y="116820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ptein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03080" y="510552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walbacher 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618200" y="14158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ierberger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796000" y="5157360"/>
            <a:ext cx="1152360" cy="360720"/>
            <a:chOff x="5796000" y="5157360"/>
            <a:chExt cx="1152360" cy="360720"/>
          </a:xfrm>
        </p:grpSpPr>
        <p:sp>
          <p:nvSpPr>
            <p:cNvPr id="94" name=""/>
            <p:cNvSpPr/>
            <p:nvPr/>
          </p:nvSpPr>
          <p:spPr>
            <a:xfrm>
              <a:off x="5796000" y="515772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2000" y="51577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5723640" y="522936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463480" y="3254400"/>
            <a:ext cx="360720" cy="1152360"/>
            <a:chOff x="2463480" y="3254400"/>
            <a:chExt cx="360720" cy="1152360"/>
          </a:xfrm>
        </p:grpSpPr>
        <p:sp>
          <p:nvSpPr>
            <p:cNvPr id="98" name=""/>
            <p:cNvSpPr/>
            <p:nvPr/>
          </p:nvSpPr>
          <p:spPr>
            <a:xfrm rot="5400000">
              <a:off x="2067480" y="365040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464920" y="347040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63840" y="325440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410920" y="1876320"/>
            <a:ext cx="360720" cy="1152360"/>
            <a:chOff x="2410920" y="1876320"/>
            <a:chExt cx="360720" cy="1152360"/>
          </a:xfrm>
        </p:grpSpPr>
        <p:sp>
          <p:nvSpPr>
            <p:cNvPr id="102" name=""/>
            <p:cNvSpPr/>
            <p:nvPr/>
          </p:nvSpPr>
          <p:spPr>
            <a:xfrm rot="5400000">
              <a:off x="2014920" y="227232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412360" y="209232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1280" y="187632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994000" y="51498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 1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286360" y="2387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2300400" y="371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14130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288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6242400" y="26222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916360" y="1628640"/>
            <a:ext cx="4552560" cy="1586880"/>
            <a:chOff x="2916360" y="1628640"/>
            <a:chExt cx="4552560" cy="1586880"/>
          </a:xfrm>
        </p:grpSpPr>
        <p:sp>
          <p:nvSpPr>
            <p:cNvPr id="113" name=""/>
            <p:cNvSpPr/>
            <p:nvPr/>
          </p:nvSpPr>
          <p:spPr>
            <a:xfrm>
              <a:off x="2916360" y="2843280"/>
              <a:ext cx="1591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86440" y="1628640"/>
              <a:ext cx="2382480" cy="1266480"/>
            </a:xfrm>
            <a:prstGeom prst="borderCallout1">
              <a:avLst>
                <a:gd name="adj1" fmla="val 18750"/>
                <a:gd name="adj2" fmla="val -8333"/>
                <a:gd name="adj3" fmla="val 95921"/>
                <a:gd name="adj4" fmla="val -59171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riffstrupp LF 2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t HD Schnellangriff des L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479040" y="2889000"/>
              <a:ext cx="693360" cy="326520"/>
              <a:chOff x="3479040" y="2889000"/>
              <a:chExt cx="693360" cy="326520"/>
            </a:xfrm>
          </p:grpSpPr>
          <p:sp>
            <p:nvSpPr>
              <p:cNvPr id="116" name=""/>
              <p:cNvSpPr/>
              <p:nvPr/>
            </p:nvSpPr>
            <p:spPr>
              <a:xfrm>
                <a:off x="3479040" y="2889000"/>
                <a:ext cx="216720" cy="259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19880" y="2896560"/>
                <a:ext cx="216720" cy="259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956040" y="2892600"/>
                <a:ext cx="216360" cy="259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0920" y="3152880"/>
                <a:ext cx="0" cy="6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733320" y="3746160"/>
            <a:ext cx="5054040" cy="2064240"/>
            <a:chOff x="733320" y="3746160"/>
            <a:chExt cx="5054040" cy="2064240"/>
          </a:xfrm>
        </p:grpSpPr>
        <p:grpSp>
          <p:nvGrpSpPr>
            <p:cNvPr id="121" name=""/>
            <p:cNvGrpSpPr/>
            <p:nvPr/>
          </p:nvGrpSpPr>
          <p:grpSpPr>
            <a:xfrm>
              <a:off x="3860640" y="4202280"/>
              <a:ext cx="690480" cy="271440"/>
              <a:chOff x="3860640" y="4202280"/>
              <a:chExt cx="690480" cy="271440"/>
            </a:xfrm>
          </p:grpSpPr>
          <p:sp>
            <p:nvSpPr>
              <p:cNvPr id="122" name=""/>
              <p:cNvSpPr/>
              <p:nvPr/>
            </p:nvSpPr>
            <p:spPr>
              <a:xfrm>
                <a:off x="3860640" y="420228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00400" y="4208760"/>
                <a:ext cx="21600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480" y="4205520"/>
                <a:ext cx="21564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62160" y="4421520"/>
                <a:ext cx="0" cy="5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651200" y="3746160"/>
              <a:ext cx="1136160" cy="1452600"/>
              <a:chOff x="4651200" y="3746160"/>
              <a:chExt cx="1136160" cy="14526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5222520" y="4857840"/>
                <a:ext cx="564840" cy="340920"/>
                <a:chOff x="5222520" y="4857840"/>
                <a:chExt cx="564840" cy="340920"/>
              </a:xfrm>
            </p:grpSpPr>
            <p:sp>
              <p:nvSpPr>
                <p:cNvPr id="128" name=""/>
                <p:cNvSpPr/>
                <p:nvPr/>
              </p:nvSpPr>
              <p:spPr>
                <a:xfrm flipH="1" flipV="1">
                  <a:off x="5307120" y="4965120"/>
                  <a:ext cx="480240" cy="2336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5276520" y="4857840"/>
                  <a:ext cx="29880" cy="98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5222520" y="4938840"/>
                  <a:ext cx="73440" cy="237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5246280" y="4963680"/>
                  <a:ext cx="63360" cy="67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 flipH="1" flipV="1">
                <a:off x="4794840" y="5010480"/>
                <a:ext cx="451080" cy="18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652640" y="4773240"/>
                <a:ext cx="142560" cy="246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651200" y="3746160"/>
                <a:ext cx="0" cy="1029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3320" y="4952880"/>
              <a:ext cx="2562480" cy="857520"/>
            </a:xfrm>
            <a:prstGeom prst="borderCallout1">
              <a:avLst>
                <a:gd name="adj1" fmla="val 18750"/>
                <a:gd name="adj2" fmla="val -8333"/>
                <a:gd name="adj3" fmla="val -45555"/>
                <a:gd name="adj4" fmla="val 150555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riffstrupp LF 1-1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t C – Ro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227560" y="5724360"/>
            <a:ext cx="2970360" cy="816120"/>
            <a:chOff x="5227560" y="5724360"/>
            <a:chExt cx="2970360" cy="816120"/>
          </a:xfrm>
        </p:grpSpPr>
        <p:grpSp>
          <p:nvGrpSpPr>
            <p:cNvPr id="137" name=""/>
            <p:cNvGrpSpPr/>
            <p:nvPr/>
          </p:nvGrpSpPr>
          <p:grpSpPr>
            <a:xfrm>
              <a:off x="5227560" y="5724360"/>
              <a:ext cx="690480" cy="271440"/>
              <a:chOff x="5227560" y="5724360"/>
              <a:chExt cx="690480" cy="271440"/>
            </a:xfrm>
          </p:grpSpPr>
          <p:sp>
            <p:nvSpPr>
              <p:cNvPr id="138" name=""/>
              <p:cNvSpPr/>
              <p:nvPr/>
            </p:nvSpPr>
            <p:spPr>
              <a:xfrm>
                <a:off x="5227560" y="572436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67320" y="5730840"/>
                <a:ext cx="21600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02400" y="5727600"/>
                <a:ext cx="21564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29080" y="5943600"/>
                <a:ext cx="0" cy="5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229440" y="5931000"/>
              <a:ext cx="1968480" cy="609480"/>
            </a:xfrm>
            <a:prstGeom prst="borderCallout1">
              <a:avLst>
                <a:gd name="adj1" fmla="val 18750"/>
                <a:gd name="adj2" fmla="val -8333"/>
                <a:gd name="adj3" fmla="val 8333"/>
                <a:gd name="adj4" fmla="val -30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tungstrupp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3471840" y="251460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043080" y="1670040"/>
            <a:ext cx="2445840" cy="1956600"/>
            <a:chOff x="3043080" y="1670040"/>
            <a:chExt cx="2445840" cy="1956600"/>
          </a:xfrm>
        </p:grpSpPr>
        <p:sp>
          <p:nvSpPr>
            <p:cNvPr id="145" name=""/>
            <p:cNvSpPr/>
            <p:nvPr/>
          </p:nvSpPr>
          <p:spPr>
            <a:xfrm>
              <a:off x="3043080" y="202608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75160" y="167004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98320" y="241632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70800" y="223848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23840" y="2598840"/>
              <a:ext cx="103428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53560" y="1730160"/>
              <a:ext cx="1035360" cy="1027800"/>
            </a:xfrm>
            <a:prstGeom prst="ellipse">
              <a:avLst/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eskiz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5013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5661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916360" y="1557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5661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68360" y="1557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013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132000" y="1557360"/>
            <a:ext cx="3024360" cy="2303280"/>
            <a:chOff x="3132000" y="1557360"/>
            <a:chExt cx="3024360" cy="2303280"/>
          </a:xfrm>
        </p:grpSpPr>
        <p:sp>
          <p:nvSpPr>
            <p:cNvPr id="161" name=""/>
            <p:cNvSpPr/>
            <p:nvPr/>
          </p:nvSpPr>
          <p:spPr>
            <a:xfrm>
              <a:off x="3203640" y="1557360"/>
              <a:ext cx="2952720" cy="23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32000" y="2278080"/>
              <a:ext cx="14472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427640" y="3933720"/>
            <a:ext cx="5032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40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59080" y="416880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fahrt Tiefga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4435200">
            <a:off x="2154960" y="116820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ptein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03080" y="510552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walbacher 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618200" y="14158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ierberger 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96000" y="5157360"/>
            <a:ext cx="1152360" cy="360720"/>
            <a:chOff x="5796000" y="5157360"/>
            <a:chExt cx="1152360" cy="360720"/>
          </a:xfrm>
        </p:grpSpPr>
        <p:sp>
          <p:nvSpPr>
            <p:cNvPr id="170" name=""/>
            <p:cNvSpPr/>
            <p:nvPr/>
          </p:nvSpPr>
          <p:spPr>
            <a:xfrm>
              <a:off x="5796000" y="515772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12000" y="51577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5723640" y="522936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463480" y="3254400"/>
            <a:ext cx="360720" cy="1152360"/>
            <a:chOff x="2463480" y="3254400"/>
            <a:chExt cx="360720" cy="1152360"/>
          </a:xfrm>
        </p:grpSpPr>
        <p:sp>
          <p:nvSpPr>
            <p:cNvPr id="174" name=""/>
            <p:cNvSpPr/>
            <p:nvPr/>
          </p:nvSpPr>
          <p:spPr>
            <a:xfrm rot="5400000">
              <a:off x="2067480" y="365040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464920" y="347040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63840" y="325440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410920" y="1876320"/>
            <a:ext cx="360720" cy="1152360"/>
            <a:chOff x="2410920" y="1876320"/>
            <a:chExt cx="360720" cy="1152360"/>
          </a:xfrm>
        </p:grpSpPr>
        <p:sp>
          <p:nvSpPr>
            <p:cNvPr id="178" name=""/>
            <p:cNvSpPr/>
            <p:nvPr/>
          </p:nvSpPr>
          <p:spPr>
            <a:xfrm rot="5400000">
              <a:off x="2014920" y="2272320"/>
              <a:ext cx="1152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412360" y="209232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11280" y="1876320"/>
              <a:ext cx="360360" cy="2160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994000" y="51498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 1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2286360" y="2387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2300400" y="371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14130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288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0072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6242400" y="26222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33320" y="3746160"/>
            <a:ext cx="5054040" cy="2064240"/>
            <a:chOff x="733320" y="3746160"/>
            <a:chExt cx="5054040" cy="2064240"/>
          </a:xfrm>
        </p:grpSpPr>
        <p:grpSp>
          <p:nvGrpSpPr>
            <p:cNvPr id="189" name=""/>
            <p:cNvGrpSpPr/>
            <p:nvPr/>
          </p:nvGrpSpPr>
          <p:grpSpPr>
            <a:xfrm>
              <a:off x="3860640" y="4202280"/>
              <a:ext cx="690480" cy="271440"/>
              <a:chOff x="3860640" y="4202280"/>
              <a:chExt cx="690480" cy="271440"/>
            </a:xfrm>
          </p:grpSpPr>
          <p:sp>
            <p:nvSpPr>
              <p:cNvPr id="190" name=""/>
              <p:cNvSpPr/>
              <p:nvPr/>
            </p:nvSpPr>
            <p:spPr>
              <a:xfrm>
                <a:off x="3860640" y="420228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00400" y="4208760"/>
                <a:ext cx="21600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335480" y="4205520"/>
                <a:ext cx="21564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62160" y="4421520"/>
                <a:ext cx="0" cy="5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651200" y="3746160"/>
              <a:ext cx="1136160" cy="1452600"/>
              <a:chOff x="4651200" y="3746160"/>
              <a:chExt cx="1136160" cy="145260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5222520" y="4857840"/>
                <a:ext cx="564840" cy="340920"/>
                <a:chOff x="5222520" y="4857840"/>
                <a:chExt cx="564840" cy="340920"/>
              </a:xfrm>
            </p:grpSpPr>
            <p:sp>
              <p:nvSpPr>
                <p:cNvPr id="196" name=""/>
                <p:cNvSpPr/>
                <p:nvPr/>
              </p:nvSpPr>
              <p:spPr>
                <a:xfrm flipH="1" flipV="1">
                  <a:off x="5307120" y="4965120"/>
                  <a:ext cx="480240" cy="2336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5276520" y="4857840"/>
                  <a:ext cx="29880" cy="98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 flipV="1">
                  <a:off x="5222520" y="4938840"/>
                  <a:ext cx="73440" cy="237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246280" y="4963680"/>
                  <a:ext cx="63360" cy="67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 flipH="1" flipV="1">
                <a:off x="4794840" y="5010480"/>
                <a:ext cx="451080" cy="18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4652640" y="4773240"/>
                <a:ext cx="142560" cy="246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4651200" y="3746160"/>
                <a:ext cx="0" cy="1029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733320" y="4952880"/>
              <a:ext cx="2562480" cy="857520"/>
            </a:xfrm>
            <a:prstGeom prst="borderCallout1">
              <a:avLst>
                <a:gd name="adj1" fmla="val 18750"/>
                <a:gd name="adj2" fmla="val -8333"/>
                <a:gd name="adj3" fmla="val -45555"/>
                <a:gd name="adj4" fmla="val 150555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riffstrupp LF 1-1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t C – Roh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355920" y="2346480"/>
            <a:ext cx="310680" cy="237960"/>
            <a:chOff x="3355920" y="2346480"/>
            <a:chExt cx="310680" cy="237960"/>
          </a:xfrm>
        </p:grpSpPr>
        <p:sp>
          <p:nvSpPr>
            <p:cNvPr id="205" name=""/>
            <p:cNvSpPr/>
            <p:nvPr/>
          </p:nvSpPr>
          <p:spPr>
            <a:xfrm>
              <a:off x="3466800" y="2346480"/>
              <a:ext cx="199800" cy="2379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412800" y="2349720"/>
              <a:ext cx="1202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418920" y="2543400"/>
              <a:ext cx="13932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55920" y="2384640"/>
              <a:ext cx="88560" cy="177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227560" y="5724360"/>
            <a:ext cx="2970360" cy="816120"/>
            <a:chOff x="5227560" y="5724360"/>
            <a:chExt cx="2970360" cy="816120"/>
          </a:xfrm>
        </p:grpSpPr>
        <p:grpSp>
          <p:nvGrpSpPr>
            <p:cNvPr id="210" name=""/>
            <p:cNvGrpSpPr/>
            <p:nvPr/>
          </p:nvGrpSpPr>
          <p:grpSpPr>
            <a:xfrm>
              <a:off x="5227560" y="5724360"/>
              <a:ext cx="690480" cy="271440"/>
              <a:chOff x="5227560" y="5724360"/>
              <a:chExt cx="690480" cy="271440"/>
            </a:xfrm>
          </p:grpSpPr>
          <p:sp>
            <p:nvSpPr>
              <p:cNvPr id="211" name=""/>
              <p:cNvSpPr/>
              <p:nvPr/>
            </p:nvSpPr>
            <p:spPr>
              <a:xfrm>
                <a:off x="5227560" y="5724360"/>
                <a:ext cx="21600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67320" y="5730840"/>
                <a:ext cx="21600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02400" y="5727600"/>
                <a:ext cx="215640" cy="21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29080" y="5943600"/>
                <a:ext cx="0" cy="5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6229440" y="5931000"/>
              <a:ext cx="1968480" cy="609480"/>
            </a:xfrm>
            <a:prstGeom prst="borderCallout1">
              <a:avLst>
                <a:gd name="adj1" fmla="val 18750"/>
                <a:gd name="adj2" fmla="val -8333"/>
                <a:gd name="adj3" fmla="val 8333"/>
                <a:gd name="adj4" fmla="val -30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tungstrupp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456000" y="1536840"/>
            <a:ext cx="4552560" cy="1586520"/>
            <a:chOff x="3456000" y="1536840"/>
            <a:chExt cx="4552560" cy="1586520"/>
          </a:xfrm>
        </p:grpSpPr>
        <p:sp>
          <p:nvSpPr>
            <p:cNvPr id="217" name=""/>
            <p:cNvSpPr/>
            <p:nvPr/>
          </p:nvSpPr>
          <p:spPr>
            <a:xfrm>
              <a:off x="3456000" y="2751480"/>
              <a:ext cx="1591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26080" y="1536840"/>
              <a:ext cx="2382480" cy="1266120"/>
            </a:xfrm>
            <a:prstGeom prst="borderCallout1">
              <a:avLst>
                <a:gd name="adj1" fmla="val 18750"/>
                <a:gd name="adj2" fmla="val -8333"/>
                <a:gd name="adj3" fmla="val 95921"/>
                <a:gd name="adj4" fmla="val -59171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riffstrupp LF 2 (1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t C - Rohr des L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4018680" y="2796840"/>
              <a:ext cx="693360" cy="326520"/>
              <a:chOff x="4018680" y="2796840"/>
              <a:chExt cx="693360" cy="326520"/>
            </a:xfrm>
          </p:grpSpPr>
          <p:sp>
            <p:nvSpPr>
              <p:cNvPr id="220" name=""/>
              <p:cNvSpPr/>
              <p:nvPr/>
            </p:nvSpPr>
            <p:spPr>
              <a:xfrm>
                <a:off x="4018680" y="2796840"/>
                <a:ext cx="216720" cy="259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59520" y="2804400"/>
                <a:ext cx="216720" cy="259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95680" y="2800440"/>
                <a:ext cx="216360" cy="259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20560" y="3060720"/>
                <a:ext cx="0" cy="6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 Weg des Angriffstrupp LF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71600" y="1208160"/>
            <a:ext cx="526104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20:37:10Z</dcterms:created>
  <dc:creator>Ingo Horn</dc:creator>
  <dc:description/>
  <dc:language>en-US</dc:language>
  <cp:lastModifiedBy>Ingo Horn</cp:lastModifiedBy>
  <dcterms:modified xsi:type="dcterms:W3CDTF">2004-11-17T17:16:40Z</dcterms:modified>
  <cp:revision>31</cp:revision>
  <dc:subject/>
  <dc:title>Brandmeister Stampe</dc:title>
</cp:coreProperties>
</file>