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FA1-D796-486B-BA34-41E04EF3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836-B26E-4372-93F3-81FBFCAB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0EF-2E69-44A6-A17D-68D1230D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494-DCE3-47CA-9848-41DE8AC7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2E22-6DD3-4206-A5D2-0F9AF01D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8B06-9C77-4F11-B699-E5D4E364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A898-1749-47FC-94CA-278AC6F0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C6EC-D4A8-4ED9-946C-9371B7E9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7DCB-B559-434F-96D1-47D6900C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8103-0FAD-4A7B-A304-62744FB2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C50D-134A-4110-A07A-C226E9E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6F3-EDE7-457F-9134-8D7BCD3D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BE00-666D-455F-AC1E-8FAB9202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7A94-0D87-4807-9337-C97E885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AF4D-41B6-4612-8791-7037F180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960B-F2A4-483C-8936-54718A13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865A-48F1-4376-AE26-A1AA44F8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C7D-0859-4B9E-A53C-6FC23390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E03-8F46-49E2-8838-C5A4D5A7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B5F-1A23-4CD4-880A-109491D2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7AC-924E-4D6D-8393-372A8EE5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9EC-2C63-4993-9D45-F187F1A3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74F-3834-4D6F-8AFB-235C03F9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DCE-805E-4B52-8C2B-464B1C0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C9DE-8C4C-4A1B-8A42-98B96F1C0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9B31-E782-4CB3-9DA6-B2C0B6A50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nsatzpraxis.de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temschutz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insatzpraxi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Standortweiterbild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-Mannschaft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Inhalte der Präsentation beruhen auf den Ausführungen der Reihe Einsatzpraxis „Atemschutz“ von „Cimolino, Aschenbrenner, Lembeck und Südmersen“, erschienen im ecomed-Verlag, ISBN 3-609-68420-8; Die Buchreihe „</a:t>
            </a:r>
            <a:r>
              <a:rPr b="1" lang="de-DE" sz="2200" spc="-1" strike="noStrike">
                <a:solidFill>
                  <a:srgbClr val="ffffff"/>
                </a:solidFill>
                <a:latin typeface="Times New Roman"/>
              </a:rPr>
              <a:t>Einsatzpraxis“ („Atemschutz“ sowie „Einsatz- und Abschnittsleitung“) 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ist nach Auffassung des Verfassers der Präsentation eine unabdingbare Voraussetzung für eine erfolgreiche Weiterbildung. Die Präsentation kann aus diesem Grunde nur eine sinnvolle Ergänzung darstellen </a:t>
            </a:r>
            <a:r>
              <a:rPr b="0" lang="de-DE" sz="15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de-DE" sz="15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einsatzpraxis.de</a:t>
            </a:r>
            <a:r>
              <a:rPr b="0" lang="de-DE" sz="15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ffffff"/>
                </a:solidFill>
                <a:latin typeface="Times New Roman"/>
              </a:rPr>
              <a:t>Aufgestellt durch Klaus Peter Reidt, Leiter Atemschutz , Feuerwehr Herleshause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80060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Dscf0033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Verhalten bei Feuer und Wärme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äume </a:t>
            </a:r>
            <a:r>
              <a:rPr b="0" lang="de-DE" sz="1800" spc="-1" strike="noStrike">
                <a:solidFill>
                  <a:srgbClr val="ffff99"/>
                </a:solidFill>
                <a:latin typeface="Times New Roman"/>
              </a:rPr>
              <a:t>die </a:t>
            </a:r>
            <a:r>
              <a:rPr b="1" lang="de-DE" sz="1800" spc="-1" strike="noStrike">
                <a:solidFill>
                  <a:srgbClr val="ffff99"/>
                </a:solidFill>
                <a:latin typeface="Times New Roman"/>
              </a:rPr>
              <a:t>mit Sicherheit nur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durch Rauch beaufschlagt sin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-Gerät schützt im ausreichenden Maße gegen Rauch und Schadstof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äume mit Rauch, zusätzlich Feuer und Hitze (Ereignis) = 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risikoreic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reignis kann nicht schnell und erfolgreich bekämpft werd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efahr der Ausbreitung, Rückzug, ggf. 2. Rettungsweg,  (Anleiterbereitschaf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Merk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Times New Roman"/>
              </a:rPr>
              <a:t>ohne ausreichende </a:t>
            </a:r>
            <a:r>
              <a:rPr b="1" lang="de-DE" sz="2200" spc="-1" strike="noStrike" u="sng">
                <a:solidFill>
                  <a:srgbClr val="ffff66"/>
                </a:solidFill>
                <a:uFillTx/>
                <a:latin typeface="Times New Roman"/>
              </a:rPr>
              <a:t>und</a:t>
            </a:r>
            <a:r>
              <a:rPr b="1" lang="de-DE" sz="2200" spc="-1" strike="noStrike">
                <a:solidFill>
                  <a:srgbClr val="ffff66"/>
                </a:solidFill>
                <a:latin typeface="Times New Roman"/>
              </a:rPr>
              <a:t> geeignete Schutzkleidung niemals einen Raum betreten (Flash Over) der unter Brandverdacht ste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rsthelfer (z.B. Bewohner, Polizisten) werden häufig dadurch verletz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euerwehr hat derartiges falsches Heldentum zu unterbin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euer und Hitze im oberen Bereich am stärksten,  extrem hohe Temperaturen können auch lähmend wir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ei zu hohen Temperaturen Raum kriechend verlassen, Einsatzauftrag gefährd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Anleiterbereitschaft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Feuerwehr%20010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Auftreten von Hindernissen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mschutzeinsatz meist unter „Null-Sicht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dernisse sind nicht nur bewegliche Teile, sondern auch Teile des Gebäudes (Treppen, Deckendurchbrüche, Absturzgefahr !!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dernisse können nur getastet werd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 dem Betreten der Einsatzstelle: erkunden, erkunden, erkunden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ch möglichst genaue Befragung ein Bild von der zu erkundenden Einsatzstelle machen (Skizz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tasten der Gegenstände, dadurch den Gegenstand eine „sinnbildliche Gestalt“ geb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astete Hindernisse mit den Erkundungen vor dem Atemschutzeinsatz abgleich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tige Gangart wäh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urchsuchungsverfahr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nach vorliegender und von außen erkennbarer Situation muss durch di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uständi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ührungskraft eine grundsätzliche Suchtaktik geplant werd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nach nach Raumbeschaffenheit kann es erforderlich sein, dass der Atemschutztrupp bestimmte Einzelverfahren anwend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rahlrohrführu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imes New Roman"/>
              </a:rPr>
              <a:t>Grundsätzlich dient der Schlauch als Sicherung für den Atemschutzeinsatz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imes New Roman"/>
              </a:rPr>
              <a:t>Dieser kennzeichnet den Rückzugsweg (Angriffsweg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imes New Roman"/>
              </a:rPr>
              <a:t>Bekämpfung des Brandes verringert die Gefahr durch Hitze und Brandfolgeprodukte (Rauch, Nebe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ktische Strahlrohrführu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rahlrohr bildet einen Schutz zwischen Trupp und dem Feu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hlstrahlrohre ermöglichen Sprühstrahl nahe 180 Grad (Hitzeschutz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schickte Ausnutzung der Luftströmungsverhältnisse im Strahlkegel ermöglichen ein Einfangen der Flam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aktische Strahlrohrführung mit mehreren Strahlrohren (2 Trupps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i Abschirmung sehr großer Wärmestrahlung für die eigene Sicherheit bzw. für den Einsatzerfolg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Merke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rupps aufeinander abstimme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in </a:t>
            </a: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gemeinsamer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Truppführ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in </a:t>
            </a: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zusätzliche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unter Druck stehendes Sicherungsrohr von einer </a:t>
            </a: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unabhängigen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zweiten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Versorgung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rupps gehen gemeinsam vor und gemeinsam zurüc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temschutzüberwachung erfasst den gemeinsamen Einsatzauftrag und Einsatzor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Anmerkung zur Präsentation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l dazu beitragen, dass Feuerwehrangehörige unverletzt aus dem Einsatz kom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tte und Sachwerte durch falsche Handlungen von Feuerwehrangehörigen oder durch Organisationsmangel nicht weiter beeinträchtigt werden (Regre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l in einfach und verständlicher Form auf Risiken, Chancen und Möglichkeiten aber auch auf di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wendigke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on Maßnahmen hinwei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Verantwortung des Atemschutztrupps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Der A-Trupp, v.a. der Trpfhr. trägt ein großes Maß an Verantwortung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ist verpflichtet sich an die Einsatzgrundsätze zu halte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notwendige Abweichungen hierzu kritisch zu hinterfrage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Verwendung der vollständigen Schutzkleidung und Registrierung (A-Überwachung) ist ein Bestandteil der Einsatzgrundsätz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Meldepflicht des vorgehenden Trupps bei Auftreten von Schwierigkeite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flicht zur gewissenhaften Einholung von Informationen (Erkunden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Einsätze bergen tlw. große Gefahre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es obliegt dem vorgehenden Trupp diese einzuschätzen und den Einsatz ggf. selbst ohne vorherigen Befehl des Vorgesetzten, abzubrechen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(beachte: Meldepflicht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tandortausbildung (Anpassung &amp; Weiterbildung an örtliche Verhältnisse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rgehensweise des A-Trupps (Schutzkleidu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icheres Vorgehen nur mit „geeigneter“ Schutzkleidung mögl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orrektes, vollständiges anlegen der Schutzkleidung, vor der Anfah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usrüsten während oder nach der Anfahrt (Einsatzstress) verzögert Tätigkeiten, welche am Einsatzort unverzüglich vorzunehmen s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chutzkleidung in richtiger Reihenfolge anziehen (im Schlaf beherrsch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halten auf der Anfah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insatzfähigkeit gegeben 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f der Fahrt weiteres ausrüsten (abhängig vom Fahrzeugtyp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urzprüfung, Dichtprobe, Erfassung der notwendigen Daten für A-Überwach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Auf keinem Fall PA aus Geräteraum während der Anfahrt aufsetzen oder Arretierung des PA in der Fahrzeughaltung vor dem endgültigen Stillstand lösen !!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kgeräte, Lampen überprüfen, Einsatzkanal abfragen, Helmsprechgarnitur !?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halten unter Sic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ögliche Schadstoffe auch bei guter Sicht (vgl. vfdb RL 10/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rotz guter Sicht sicheren Rückzugsweg einplanen (vgl. Unfall in Köl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elche Rückzugswege gibt 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z.B. Anleiterbereitschaft incl.Sicherungsschlauchleitung (ausreichend Reserve!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33"/>
                </a:solidFill>
                <a:latin typeface="Times New Roman"/>
              </a:rPr>
              <a:t>Merke: Angriffsweg ist nicht immer Rückzugsweg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icherungsmaßnahmen bei Einsätzen ohne Sicht gelten auch bei guter Si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halten ohne Sicht bzw. Fortbewegung im Innenangrif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i Einsätzen unter A-Geräten Beeinträchtigung der Sicht durch Brandfolgeprodukten (Rauch, Nebe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tärke der Sichtbehinderung variiert sehr oft mit dem Abstand zum Bo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chwergase verursachen „Nebel“ am Bo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Zumeist keine Wärmebildkamera in den Feuerwehren (vgl. Worcesterunfa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Atemschutzgeräteträger im „Übungseinsatz“ bei Null Sicht.</a:t>
            </a:r>
            <a:r>
              <a:rPr b="0" lang="de-DE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de-DE" sz="1800" spc="-1" strike="noStrike">
                <a:solidFill>
                  <a:srgbClr val="ffffcc"/>
                </a:solidFill>
                <a:latin typeface="Arial"/>
              </a:rPr>
              <a:t>Bilder von Feuerwehr Herleshausen</a:t>
            </a:r>
            <a:r>
              <a:rPr b="0" lang="de-DE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de-DE" sz="1800" spc="-1" strike="noStrike">
                <a:solidFill>
                  <a:srgbClr val="ffffcc"/>
                </a:solidFill>
                <a:latin typeface="Arial"/>
              </a:rPr>
              <a:t>Kam. Harseim &amp; Reidt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Dscf002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Dscf0025" descr=""/>
          <p:cNvPicPr/>
          <p:nvPr/>
        </p:nvPicPr>
        <p:blipFill>
          <a:blip r:embed="rId1"/>
          <a:stretch/>
        </p:blipFill>
        <p:spPr>
          <a:xfrm>
            <a:off x="-304920" y="-91440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2:29:08Z</dcterms:created>
  <dc:creator>NN</dc:creator>
  <dc:description/>
  <dc:language>en-US</dc:language>
  <cp:lastModifiedBy>diver</cp:lastModifiedBy>
  <dcterms:modified xsi:type="dcterms:W3CDTF">2003-03-25T19:21:24Z</dcterms:modified>
  <cp:revision>56</cp:revision>
  <dc:subject/>
  <dc:title>Präsentation des Atemschutzbereiches</dc:title>
</cp:coreProperties>
</file>