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4D0-99D1-417B-B1F7-2CCE76C0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650-5F6A-4BC4-8ADA-C22388E1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CE0-DE62-407F-8E2E-AB344277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4DC-6169-4CAB-9A68-5DCF9C3F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03DB-6F90-44A3-A0BF-C305C629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35DF-0259-4B18-8100-26E8067F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0601-EF88-4667-92FE-8B06A0F9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F7F6-23A6-47FE-9540-F8AF7810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F83D-9657-4E37-A90F-7DE16DE5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43E2-4F06-4843-A505-65F8E381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013A-FA29-429D-8969-969EAC9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D76-72BC-484D-A05F-73EC0DE8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CB12-4AB7-4880-A05E-5FF91484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E178-61D3-4A57-8053-FC47566D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46DA-51A3-447D-8D72-38B44706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FAAD-9B80-4697-959D-ADDA5D68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A96A-2C28-49E2-AA0E-7EFEEE98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9D7-D4D2-4CE6-B3CF-D732AB8C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FC9-CF79-4663-A954-EE4363CC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51C-0BE4-4F16-BB55-A1EE3F2A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026-D814-47B0-8B90-528A09AB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CD2-E06C-4367-9900-CE6833D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CEE-62A5-4D7F-B585-A70E7AC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405-C819-44EB-8E5F-B948A574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83B-CFCB-45E4-94E6-2139B70809DD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EAA8-502B-4A6C-8F8F-27EA10896CB0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565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Was ist eine The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371628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Ein Satz der eine Behauptung enthält, die erst bewiesen werden muss !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Quelle - Brockh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CA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lche Gefahren können mit CAFS im Innenangriff entsteh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Scha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lche Gefahren birgt dieser im Innenangriff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Führungsebe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as ist hier beim Atemschutzeinsatz besonders zu beach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26920" y="321300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Abschnittsleiter – Innenangri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lche Gefahren kann er schaff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Bauku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ist diese so wichtig für Führung UND Mannschaf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321300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Atemschutzüberwachung und –dokum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r ist jeweils dafür verantwortlich und welche Inhalte haben diese jeweil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Standorte der A-Trup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sind diese so wichtig für den zuständigen Einheitsführ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Standorte der A-Trup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muss jeder A-Trupp selbst gesichert wissen wo er sich gerade befinde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Ein A-Trupp läuft grundsätzlich nicht an einem Feuer vorb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und was ist die Ausnahm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3213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 soll sich der Sicherheitstrupp in Wartestellung verhal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565360"/>
            <a:ext cx="6985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erne ich als erfahrene Führungsk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ßer „dieser Definition“ noch et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UES“  bei dieser Veranstaltu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4724280"/>
            <a:ext cx="73454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NEIN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ahoma"/>
              </a:rPr>
              <a:t>aber hier bleiben lohnt sich dennoch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3213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ann ist der Rückzugsweg für den A-Trupp spätestens anzutre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Frühzeitige Reser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ist das Bilden dieser Reserven durch den Einsatzleiter so wichti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6920" y="3213000"/>
            <a:ext cx="7274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orin besteht die Gefahr wenn sich A-Trupps eigene Aufträge erteilen und durchfüh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as ist wenn es unbedingt erforderlich 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Zweiter Rettungsw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ist er so wichtig und wer muss was darüber wiss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2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3213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Atemschutz-Dreiertrup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Vorteilhaft im Falle einer Gefah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itere Vortei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26920" y="2565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Lasst uns jetzt gemeinsam diese vorher gestellte These widerlegen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6920" y="393372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9900"/>
                </a:solidFill>
                <a:latin typeface="Tahoma"/>
              </a:rPr>
              <a:t>WIE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00"/>
                </a:solidFill>
                <a:latin typeface="Tahoma"/>
              </a:rPr>
              <a:t>Beantworten wir einfach gemeinsam diese 20 Punkt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6920" y="2421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de-DE" sz="3600" spc="-1" strike="noStrike">
                <a:solidFill>
                  <a:srgbClr val="000000"/>
                </a:solidFill>
                <a:latin typeface="Tahoma"/>
              </a:rPr>
              <a:t>in GRUPPENARBEIT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328464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4 Gruppen - je Gruppe 5 Punkte,           30 Minuten Ausarbeitungszei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6920" y="4653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Anschließend je Gruppe Vortrag von ca. 15 Minut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6920" y="2421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LETZER PUN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6920" y="321300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Über was muss sich eine Führungskraft, insbesondere beim Atemschutzeinsatz bewusst sein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26920" y="465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00"/>
                </a:solidFill>
                <a:latin typeface="Tahoma"/>
              </a:rPr>
              <a:t>Über die Verantwortung gegenüber seiner Trupps im Einsatz und über die Konsequenzen, welche sich aus seinen Befehlen heraus ergeben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6920" y="2421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Hat JEDER für sich ALLE Fragen gewus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26920" y="3213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9900"/>
                </a:solidFill>
                <a:latin typeface="Tahoma"/>
              </a:rPr>
              <a:t>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6920" y="3933720"/>
            <a:ext cx="6985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SUPER, Du hast Heute Dein Wi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derholt. Ständiges wiederh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unseres Wissens ist wichtig 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Einsätze „ optimal“ führen zu könn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2421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Hat JEDER für sich ALLE Fragen gewus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3213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N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39337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3333cc"/>
                </a:solidFill>
                <a:latin typeface="Tahoma"/>
              </a:rPr>
              <a:t>GUT dass Du doch hier geblieben bis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95640" y="508464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de-DE" sz="4800" spc="-1" strike="noStrike">
                <a:solidFill>
                  <a:srgbClr val="009900"/>
                </a:solidFill>
                <a:latin typeface="Tahoma"/>
              </a:rPr>
              <a:t>DANKE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565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ahoma"/>
              </a:rPr>
              <a:t>Frag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3645000"/>
            <a:ext cx="698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Tahoma"/>
              </a:rPr>
              <a:t>„</a:t>
            </a:r>
            <a:r>
              <a:rPr b="1" lang="de-DE" sz="4000" spc="-1" strike="noStrike">
                <a:solidFill>
                  <a:srgbClr val="3333cc"/>
                </a:solidFill>
                <a:latin typeface="Tahoma"/>
              </a:rPr>
              <a:t>Tübingen“ ist überal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de-DE" sz="4000" spc="-1" strike="noStrike">
                <a:solidFill>
                  <a:srgbClr val="3333cc"/>
                </a:solidFill>
                <a:latin typeface="Tahoma"/>
              </a:rPr>
              <a:t>auch bei UNS 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72428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26920" y="2421000"/>
            <a:ext cx="5616720" cy="23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edenken wir zum Abschluss der verstorbenen Kameraden aus Tübingen vom Einsatz 17.12.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itte erheben wir uns hierzu alle kurz von unseren Plätz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321300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36000" y="2421000"/>
            <a:ext cx="360360" cy="25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04000" y="2852640"/>
            <a:ext cx="1224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565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ahoma"/>
              </a:rPr>
              <a:t>The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64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„</a:t>
            </a: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Tübingen“ ist auch bei U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4437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wenn Ihr auf nachfolgende 20 Punkte keine Antworten habt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213000"/>
            <a:ext cx="741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Der Sicherheitstrup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o hat er seinen geeigneten Standort und welche zusätzlichen Geräte führt er mit oder legt er bere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213000"/>
            <a:ext cx="7129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Die Notfallmeldung des A-Trup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 funktioniert diese korrekt (Inhalt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213000"/>
            <a:ext cx="6985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lche Meldungen über 2m-Funk muss der A-Trupp seinem zuständigen Einheitsführer nach Außen meld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3213000"/>
            <a:ext cx="6985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Atemschutz-Sammelpunk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lche Gefahren können entstehen, wenn aus diesen heraus direkt Trupps eingesetzt werd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321300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Atemschutz-Notfalltr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as ist 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4:32:12Z</dcterms:created>
  <dc:creator>Franz</dc:creator>
  <dc:description/>
  <dc:language>en-US</dc:language>
  <cp:lastModifiedBy> </cp:lastModifiedBy>
  <dcterms:modified xsi:type="dcterms:W3CDTF">2007-02-27T17:25:52Z</dcterms:modified>
  <cp:revision>149</cp:revision>
  <dc:subject/>
  <dc:title>PowerPoint-Präsentation</dc:title>
</cp:coreProperties>
</file>