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FE5-7A4A-4EB0-AA12-BE97EB61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D82-93BC-4F06-935C-6A2A1593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DD0-AE46-423B-8FC2-7B6CFD73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D37-A1E8-4AC9-9416-7A03E148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64FF-0BED-48C7-8464-80397282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F979-BD74-4F75-B122-94DF1AFE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F4BA-7CF2-4FCD-B29F-62627516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D18E-DE94-419A-9E9E-14D2A3DC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DDF0-EAA6-49C9-908C-ED5D1140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49A5-1B71-49BC-839A-F738DE53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EE30-3E51-4680-92D7-3CF9E601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9FA-7131-4BD7-96B2-37FD4BD2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9BEA-4FC7-47DD-AED2-6BA5FE34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A76B-547F-46C7-99B8-38E474D7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D60C-4ECF-4965-A7BD-89DF8883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02C9-48AB-4E4D-805A-45DC09E5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FBF8-7762-45B0-BA42-6C70E0E4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1E2-FBED-428E-8FF6-B8AF89BB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824-11D7-442D-8324-7F64D5BA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FFA-D12D-4D94-AF76-EEC2E0A5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B70-7EF9-4526-B899-C6811573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1F5-3BD0-4031-8C4C-6C79BCBB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6AF-34F6-49D2-BD0C-A45D9508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82C-E8AB-4818-A81C-96D96E4C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57CA-F84A-4BA4-97E3-2A1B889AABC7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50CE-9BC0-45C6-BFC1-C91191082F07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565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Was ist eine The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371628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Ein Satz der eine Behauptung enthält, die erst bewiesen werden muss !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Quelle - Brockh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CA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lche Gefahren können mit CAFS im Innenangriff entsteh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Scha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lche Gefahren birgt dieser im Innenangriff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Führungsebe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as ist hier beim Atemschutzeinsatz besonders zu beach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26920" y="321300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Abschnittsleiter – Innenangri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lche Gefahren kann er schaff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Bauku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ist diese so wichtig für Führung UND Mannschaf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321300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Atemschutzüberwachung und –dokum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r ist jeweils dafür verantwortlich und welche Inhalte haben diese jeweil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Standorte der A-Trup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sind diese so wichtig für den zuständigen Einheitsführ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Standorte der A-Trup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muss jeder A-Trupp selbst gesichert wissen wo er sich gerade befinde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Ein A-Trupp läuft grundsätzlich nicht an einem Feuer vorb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und was ist die Ausnahm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3213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 soll sich der Sicherheitstrupp in Wartestellung verhal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565360"/>
            <a:ext cx="6985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erne ich als erfahrene Führungsk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ßer „dieser Definition“ noch et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UES“  bei dieser Veranstaltu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4724280"/>
            <a:ext cx="73454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NEIN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ahoma"/>
              </a:rPr>
              <a:t>aber hier bleiben lohnt sich dennoch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3213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ann ist der Rückzugsweg für den A-Trupp spätestens anzutre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Frühzeitige Reser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ist das Bilden dieser Reserven durch den Einsatzleiter so wichti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6920" y="3213000"/>
            <a:ext cx="7274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orin besteht die Gefahr wenn sich A-Trupps eigene Aufträge erteilen und durchfüh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as ist wenn es unbedingt erforderlich 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3213000"/>
            <a:ext cx="698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Zweiter Rettungsw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so ist er so wichtig und wer muss was darüber wiss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2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3213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Atemschutz-Dreiertrup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Vorteilhaft im Falle einer Gefah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itere Vortei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26920" y="2565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Lasst uns jetzt gemeinsam diese vorher gestellte These widerlegen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6920" y="393372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9900"/>
                </a:solidFill>
                <a:latin typeface="Tahoma"/>
              </a:rPr>
              <a:t>WIE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00"/>
                </a:solidFill>
                <a:latin typeface="Tahoma"/>
              </a:rPr>
              <a:t>Beantworten wir einfach gemeinsam diese 20 Punkt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6920" y="2421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de-DE" sz="3600" spc="-1" strike="noStrike">
                <a:solidFill>
                  <a:srgbClr val="000000"/>
                </a:solidFill>
                <a:latin typeface="Tahoma"/>
              </a:rPr>
              <a:t>in GRUPPENARBEIT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328464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4 Gruppen - je Gruppe 5 Punkte,           30 Minuten Ausarbeitungszei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6920" y="4653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Anschließend je Gruppe Vortrag von ca. 15 Minut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6920" y="2421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LETZER PUN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6920" y="321300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Über was muss sich eine Führungskraft, insbesondere beim Atemschutzeinsatz bewusst sein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26920" y="4653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00"/>
                </a:solidFill>
                <a:latin typeface="Tahoma"/>
              </a:rPr>
              <a:t>Über die Verantwortung gegenüber seiner Trupps im Einsatz und über die Konsequenzen, welche sich aus seinen Befehlen heraus ergeben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6920" y="2421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Hat JEDER für sich ALLE Fragen gewus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26920" y="3213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9900"/>
                </a:solidFill>
                <a:latin typeface="Tahoma"/>
              </a:rPr>
              <a:t>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6920" y="3933720"/>
            <a:ext cx="6985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SUPER, Du hast Heute Dein Wi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derholt. Ständiges wiederh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unseres Wissens ist wichtig 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Einsätze „ optimal“ führen zu könn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2421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Hat JEDER für sich ALLE Fragen gewus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3213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N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39337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de-DE" sz="2800" spc="-1" strike="noStrike">
                <a:solidFill>
                  <a:srgbClr val="3333cc"/>
                </a:solidFill>
                <a:latin typeface="Tahoma"/>
              </a:rPr>
              <a:t>GUT dass Du doch hier geblieben bis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95640" y="508464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de-DE" sz="4800" spc="-1" strike="noStrike">
                <a:solidFill>
                  <a:srgbClr val="009900"/>
                </a:solidFill>
                <a:latin typeface="Tahoma"/>
              </a:rPr>
              <a:t>DANKE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565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ahoma"/>
              </a:rPr>
              <a:t>Frag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3645000"/>
            <a:ext cx="698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Tahoma"/>
              </a:rPr>
              <a:t>„</a:t>
            </a:r>
            <a:r>
              <a:rPr b="1" lang="de-DE" sz="4000" spc="-1" strike="noStrike">
                <a:solidFill>
                  <a:srgbClr val="3333cc"/>
                </a:solidFill>
                <a:latin typeface="Tahoma"/>
              </a:rPr>
              <a:t>Tübingen“ ist überal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de-DE" sz="4000" spc="-1" strike="noStrike">
                <a:solidFill>
                  <a:srgbClr val="3333cc"/>
                </a:solidFill>
                <a:latin typeface="Tahoma"/>
              </a:rPr>
              <a:t>auch bei UNS 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72428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26920" y="2421000"/>
            <a:ext cx="5616720" cy="23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edenken wir zum Abschluss der verstorbenen Kameraden aus Tübingen vom Einsatz 17.12.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itte erheben wir uns hierzu alle kurz von unseren Plätz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321300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36000" y="2421000"/>
            <a:ext cx="360360" cy="25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04000" y="2852640"/>
            <a:ext cx="1224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565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ahoma"/>
              </a:rPr>
              <a:t>The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64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„</a:t>
            </a: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Tübingen“ ist auch bei U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4437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Tahoma"/>
              </a:rPr>
              <a:t>wenn Ihr auf nachfolgende 20 Punkte keine Antworten habt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213000"/>
            <a:ext cx="741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Der Sicherheitstrup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o hat er seinen geeigneten Standort und welche zusätzlichen Geräte führt er mit oder legt er bere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213000"/>
            <a:ext cx="7129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Die Notfallmeldung des A-Trup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ie funktioniert diese korrekt (Inhalt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213000"/>
            <a:ext cx="6985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lche Meldungen über 2m-Funk muss der A-Trupp seinem zuständigen Einheitsführer nach Außen meld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3213000"/>
            <a:ext cx="6985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Atemschutz-Sammelpunk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elche Gefahren können entstehen, wenn aus diesen heraus direkt Trupps eingesetzt werd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8199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0910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057400" y="3808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eisbrandinspektion – Landkreis Lindau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63817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chnell – kompetent – zuverlässi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9079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temschutzeinsatz ist  lebensgefähr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6381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</a:rPr>
              <a:t>01/2007 KBM End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UNKT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321300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Atemschutz-Notfalltr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Was ist 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4:32:12Z</dcterms:created>
  <dc:creator>Franz</dc:creator>
  <dc:description/>
  <dc:language>en-US</dc:language>
  <cp:lastModifiedBy> </cp:lastModifiedBy>
  <dcterms:modified xsi:type="dcterms:W3CDTF">2007-02-27T17:25:52Z</dcterms:modified>
  <cp:revision>149</cp:revision>
  <dc:subject/>
  <dc:title>PowerPoint-Präsentation</dc:title>
</cp:coreProperties>
</file>