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775C-2DBF-426E-93D7-89E747AE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7E46-F973-4B1E-933A-FB1DDBA9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FFEC-2E05-4B84-86A1-25C54AC7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814A-CA3E-4255-BAF3-1AE71B79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FDCC-152B-4EDE-9003-8DD74AFE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4A14-5F3F-4CA3-A03D-0B53BDBD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E3FF-D8AA-4BD0-94A5-C004FDB7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28EF-4807-40C1-BCAD-2128031A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2104-3F1B-4B2B-8A23-B5508091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7DC7-2871-4B2C-A5B8-49D75DF7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9074-40C4-481D-ACBA-D6CE3EF8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B1BB-D5FD-4E37-9CF2-689F8D02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98B2-FA30-4E2D-98A5-CF2BC97666E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63640" y="858960"/>
            <a:ext cx="1441440" cy="387360"/>
          </a:xfrm>
          <a:prstGeom prst="flowChartAlternateProcess">
            <a:avLst/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14720" y="1506600"/>
            <a:ext cx="539640" cy="64764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68640" y="2662200"/>
            <a:ext cx="1484280" cy="519120"/>
          </a:xfrm>
          <a:prstGeom prst="flowChartProcess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Kontrolle 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temluftvor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38280" y="9194760"/>
            <a:ext cx="1889280" cy="520920"/>
          </a:xfrm>
          <a:prstGeom prst="flowChartTerminator">
            <a:avLst/>
          </a:prstGeom>
          <a:solidFill>
            <a:srgbClr val="33cc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bringen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cheren Ort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84360" y="1246320"/>
            <a:ext cx="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599000" y="3387240"/>
            <a:ext cx="0" cy="390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5402160"/>
            <a:ext cx="0" cy="71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9000" y="6361200"/>
            <a:ext cx="0" cy="453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84360" y="7243920"/>
            <a:ext cx="0" cy="779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856152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08280" y="808200"/>
            <a:ext cx="133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erunglück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-Trä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8280" y="2467080"/>
            <a:ext cx="1351080" cy="987480"/>
          </a:xfrm>
          <a:prstGeom prst="flowChartDecision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ash-Rettung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öglich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08280" y="1490760"/>
            <a:ext cx="1350720" cy="1039680"/>
          </a:xfrm>
          <a:prstGeom prst="flowChartDecision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bensgefahr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3778200"/>
            <a:ext cx="1351080" cy="988920"/>
          </a:xfrm>
          <a:prstGeom prst="flowChartDecision">
            <a:avLst/>
          </a:prstGeom>
          <a:solidFill>
            <a:srgbClr val="33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uftvorr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usreichen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5600" y="4883040"/>
            <a:ext cx="1484280" cy="519120"/>
          </a:xfrm>
          <a:prstGeom prst="flowChartProcess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icherstell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r Atemluftversorg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33640" y="5824440"/>
            <a:ext cx="1484640" cy="519120"/>
          </a:xfrm>
          <a:prstGeom prst="flowChartProcess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Überprüfen 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fähigke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24360" y="6751800"/>
            <a:ext cx="1351080" cy="988920"/>
          </a:xfrm>
          <a:prstGeom prst="flowChartDecision">
            <a:avLst/>
          </a:prstGeom>
          <a:solidFill>
            <a:srgbClr val="33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rei“ 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fähi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3640" y="8024760"/>
            <a:ext cx="1484280" cy="515880"/>
          </a:xfrm>
          <a:prstGeom prst="flowChartProcess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efreien und Herstel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r Transportfähigke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59000" y="2027160"/>
            <a:ext cx="1486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5080" y="2027160"/>
            <a:ext cx="0" cy="439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438280" y="4265640"/>
            <a:ext cx="1486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4265640"/>
            <a:ext cx="0" cy="63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044360" y="2027160"/>
            <a:ext cx="76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73640" y="4265640"/>
            <a:ext cx="98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2560" y="6119640"/>
            <a:ext cx="90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62560" y="4265640"/>
            <a:ext cx="0" cy="185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042920" y="2027160"/>
            <a:ext cx="0" cy="439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440" y="47520"/>
            <a:ext cx="640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laufplan „Auffinden eines verunglückten PA-Träger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157788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82200" y="15969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31120" y="383544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63640" y="295416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3280" y="246708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599000" y="3196800"/>
            <a:ext cx="0" cy="19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58280" y="257328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64000" y="384012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84360" y="724392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08640" y="7243920"/>
            <a:ext cx="0" cy="21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07560" y="676584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00440" y="677556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8640" y="9437760"/>
            <a:ext cx="44640" cy="982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943776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428640" y="943776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73640" y="7243920"/>
            <a:ext cx="103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6122880"/>
            <a:ext cx="13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3441600"/>
            <a:ext cx="0" cy="599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2920" y="403560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98400" y="158904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atientenorientierte Ret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5890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1080" y="1577880"/>
            <a:ext cx="138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3300"/>
                </a:solidFill>
                <a:latin typeface="Arial"/>
              </a:rPr>
              <a:t>crash-Ret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9360" y="407880"/>
            <a:ext cx="621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ähere Informationen finden Sie unter www.atemschutzunfaelle.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12:47:10Z</dcterms:created>
  <dc:creator>dietmar kuhn</dc:creator>
  <dc:description/>
  <dc:language>en-US</dc:language>
  <cp:lastModifiedBy> </cp:lastModifiedBy>
  <dcterms:modified xsi:type="dcterms:W3CDTF">2005-06-04T16:19:20Z</dcterms:modified>
  <cp:revision>36</cp:revision>
  <dc:subject/>
  <dc:title>Folie 1</dc:title>
</cp:coreProperties>
</file>